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42B8A-E2DF-4CB9-8328-2E34705B2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CDAAF-FF73-437E-A4CA-EABB229E3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8DCDB-FA32-45AF-835A-1EF8F282E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C6F9B-E6C6-458D-817E-89C6EF574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4BA9E-3DD0-4D67-A5AD-62511F54E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AC980-317D-4BCE-B3C5-7302BFA69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79240-F5A0-4B90-8D02-AD98FFD9D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5FDA8-833C-4310-90AC-37CA8EB5E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15091-1C24-4E2F-BA8A-E30AF2687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F7F6F-FBC7-4867-AB24-90D87C3D9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725C3-0AD2-4664-B21C-50754E49A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9AA58-A350-4B83-9CD1-F7854C968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4C39A-D794-49DC-89DE-C1137A6C25DC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000" y="980640"/>
            <a:ext cx="7746840" cy="20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Formal Languages and Compiler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476360" y="3716280"/>
            <a:ext cx="6121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Alexander Medun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&amp;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Roman Luk</a:t>
            </a: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áš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685800" y="1752480"/>
            <a:ext cx="7772400" cy="14479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85800" y="167652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two strings ove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refi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f there is a string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ve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xz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09480" y="3124080"/>
            <a:ext cx="815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 th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roper prefi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85800" y="3657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09480" y="358128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nsider 10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ask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ll prefixes of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10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1219320" y="4648320"/>
            <a:ext cx="2971800" cy="1752480"/>
            <a:chOff x="1219320" y="4648320"/>
            <a:chExt cx="2971800" cy="1752480"/>
          </a:xfrm>
        </p:grpSpPr>
        <p:sp>
          <p:nvSpPr>
            <p:cNvPr id="235" name=""/>
            <p:cNvSpPr/>
            <p:nvPr/>
          </p:nvSpPr>
          <p:spPr>
            <a:xfrm>
              <a:off x="3886200" y="4648320"/>
              <a:ext cx="304920" cy="1752480"/>
            </a:xfrm>
            <a:custGeom>
              <a:avLst/>
              <a:gdLst>
                <a:gd name="textAreaLeft" fmla="*/ 194760 w 304920"/>
                <a:gd name="textAreaRight" fmla="*/ 305280 w 304920"/>
                <a:gd name="textAreaTop" fmla="*/ 45360 h 1752480"/>
                <a:gd name="textAreaBottom" fmla="*/ 1707120 h 1752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219320" y="5257800"/>
              <a:ext cx="2743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Prefixes of 101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4952880" y="4952880"/>
            <a:ext cx="2895840" cy="1066680"/>
            <a:chOff x="4952880" y="4952880"/>
            <a:chExt cx="2895840" cy="1066680"/>
          </a:xfrm>
        </p:grpSpPr>
        <p:sp>
          <p:nvSpPr>
            <p:cNvPr id="238" name=""/>
            <p:cNvSpPr/>
            <p:nvPr/>
          </p:nvSpPr>
          <p:spPr>
            <a:xfrm>
              <a:off x="4952880" y="4952880"/>
              <a:ext cx="304920" cy="1066680"/>
            </a:xfrm>
            <a:custGeom>
              <a:avLst/>
              <a:gdLst>
                <a:gd name="textAreaLeft" fmla="*/ 0 w 304920"/>
                <a:gd name="textAreaRight" fmla="*/ 110160 w 304920"/>
                <a:gd name="textAreaTop" fmla="*/ 27720 h 1066680"/>
                <a:gd name="textAreaBottom" fmla="*/ 1038960 h 1066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257800" y="5029200"/>
              <a:ext cx="25909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Proper prefixes of 101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191120" y="4267080"/>
            <a:ext cx="456840" cy="733680"/>
            <a:chOff x="4191120" y="4267080"/>
            <a:chExt cx="456840" cy="733680"/>
          </a:xfrm>
        </p:grpSpPr>
        <p:sp>
          <p:nvSpPr>
            <p:cNvPr id="241" name=""/>
            <p:cNvSpPr/>
            <p:nvPr/>
          </p:nvSpPr>
          <p:spPr>
            <a:xfrm>
              <a:off x="4191120" y="4419360"/>
              <a:ext cx="456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373640" y="4267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3" name=""/>
          <p:cNvGrpSpPr/>
          <p:nvPr/>
        </p:nvGrpSpPr>
        <p:grpSpPr>
          <a:xfrm>
            <a:off x="4191120" y="4267080"/>
            <a:ext cx="380880" cy="1114920"/>
            <a:chOff x="4191120" y="4267080"/>
            <a:chExt cx="380880" cy="1114920"/>
          </a:xfrm>
        </p:grpSpPr>
        <p:sp>
          <p:nvSpPr>
            <p:cNvPr id="244" name=""/>
            <p:cNvSpPr/>
            <p:nvPr/>
          </p:nvSpPr>
          <p:spPr>
            <a:xfrm>
              <a:off x="4191120" y="480060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343400" y="4267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6" name=""/>
          <p:cNvGrpSpPr/>
          <p:nvPr/>
        </p:nvGrpSpPr>
        <p:grpSpPr>
          <a:xfrm>
            <a:off x="4191120" y="4267080"/>
            <a:ext cx="685800" cy="1495800"/>
            <a:chOff x="4191120" y="4267080"/>
            <a:chExt cx="685800" cy="1495800"/>
          </a:xfrm>
        </p:grpSpPr>
        <p:sp>
          <p:nvSpPr>
            <p:cNvPr id="247" name=""/>
            <p:cNvSpPr/>
            <p:nvPr/>
          </p:nvSpPr>
          <p:spPr>
            <a:xfrm>
              <a:off x="4191120" y="518148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1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343400" y="4267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9" name=""/>
          <p:cNvGrpSpPr/>
          <p:nvPr/>
        </p:nvGrpSpPr>
        <p:grpSpPr>
          <a:xfrm>
            <a:off x="4191120" y="4267080"/>
            <a:ext cx="838080" cy="1876680"/>
            <a:chOff x="4191120" y="4267080"/>
            <a:chExt cx="838080" cy="1876680"/>
          </a:xfrm>
        </p:grpSpPr>
        <p:sp>
          <p:nvSpPr>
            <p:cNvPr id="250" name=""/>
            <p:cNvSpPr/>
            <p:nvPr/>
          </p:nvSpPr>
          <p:spPr>
            <a:xfrm>
              <a:off x="4191120" y="556236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10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343400" y="4267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2" name=""/>
          <p:cNvGrpSpPr/>
          <p:nvPr/>
        </p:nvGrpSpPr>
        <p:grpSpPr>
          <a:xfrm>
            <a:off x="4191120" y="4267080"/>
            <a:ext cx="1066680" cy="2257920"/>
            <a:chOff x="4191120" y="4267080"/>
            <a:chExt cx="1066680" cy="2257920"/>
          </a:xfrm>
        </p:grpSpPr>
        <p:sp>
          <p:nvSpPr>
            <p:cNvPr id="253" name=""/>
            <p:cNvSpPr/>
            <p:nvPr/>
          </p:nvSpPr>
          <p:spPr>
            <a:xfrm>
              <a:off x="4191120" y="5943600"/>
              <a:ext cx="1066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101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343400" y="4267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refix of Str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1430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is a prefix of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65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70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75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0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5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500"/>
                            </p:stCondLst>
                            <p:childTnLst>
                              <p:par>
                                <p:cTn id="295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685800" y="1752480"/>
            <a:ext cx="7772400" cy="14479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167652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two strings ove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uffi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f there is a string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ve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zx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124080"/>
            <a:ext cx="815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 th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roper suffi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85800" y="3657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365760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nsider 1010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ask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ll suffixes of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10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3" name=""/>
          <p:cNvGrpSpPr/>
          <p:nvPr/>
        </p:nvGrpSpPr>
        <p:grpSpPr>
          <a:xfrm>
            <a:off x="1219320" y="4724280"/>
            <a:ext cx="2971800" cy="1752840"/>
            <a:chOff x="1219320" y="4724280"/>
            <a:chExt cx="2971800" cy="1752840"/>
          </a:xfrm>
        </p:grpSpPr>
        <p:sp>
          <p:nvSpPr>
            <p:cNvPr id="264" name=""/>
            <p:cNvSpPr/>
            <p:nvPr/>
          </p:nvSpPr>
          <p:spPr>
            <a:xfrm>
              <a:off x="3886200" y="4724280"/>
              <a:ext cx="304920" cy="1752840"/>
            </a:xfrm>
            <a:custGeom>
              <a:avLst/>
              <a:gdLst>
                <a:gd name="textAreaLeft" fmla="*/ 194760 w 304920"/>
                <a:gd name="textAreaRight" fmla="*/ 305280 w 304920"/>
                <a:gd name="textAreaTop" fmla="*/ 45720 h 1752840"/>
                <a:gd name="textAreaBottom" fmla="*/ 1707120 h 1752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219320" y="5334120"/>
              <a:ext cx="2743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Suffixes of 101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5105520" y="5029200"/>
            <a:ext cx="2895120" cy="1066680"/>
            <a:chOff x="5105520" y="5029200"/>
            <a:chExt cx="2895120" cy="1066680"/>
          </a:xfrm>
        </p:grpSpPr>
        <p:sp>
          <p:nvSpPr>
            <p:cNvPr id="267" name=""/>
            <p:cNvSpPr/>
            <p:nvPr/>
          </p:nvSpPr>
          <p:spPr>
            <a:xfrm>
              <a:off x="5105520" y="5029200"/>
              <a:ext cx="304560" cy="1066680"/>
            </a:xfrm>
            <a:custGeom>
              <a:avLst/>
              <a:gdLst>
                <a:gd name="textAreaLeft" fmla="*/ 0 w 304560"/>
                <a:gd name="textAreaRight" fmla="*/ 109800 w 304560"/>
                <a:gd name="textAreaTop" fmla="*/ 27720 h 1066680"/>
                <a:gd name="textAreaBottom" fmla="*/ 1038960 h 1066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410080" y="5105520"/>
              <a:ext cx="25905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Proper suffixes of 101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4191120" y="4419720"/>
            <a:ext cx="990360" cy="657360"/>
            <a:chOff x="4191120" y="4419720"/>
            <a:chExt cx="990360" cy="657360"/>
          </a:xfrm>
        </p:grpSpPr>
        <p:sp>
          <p:nvSpPr>
            <p:cNvPr id="270" name=""/>
            <p:cNvSpPr/>
            <p:nvPr/>
          </p:nvSpPr>
          <p:spPr>
            <a:xfrm>
              <a:off x="4191120" y="4495680"/>
              <a:ext cx="990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    </a:t>
              </a: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cs-CZ" sz="32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</a:t>
              </a: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724280" y="441972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4191120" y="4343400"/>
            <a:ext cx="989640" cy="1114920"/>
            <a:chOff x="4191120" y="4343400"/>
            <a:chExt cx="989640" cy="1114920"/>
          </a:xfrm>
        </p:grpSpPr>
        <p:sp>
          <p:nvSpPr>
            <p:cNvPr id="273" name=""/>
            <p:cNvSpPr/>
            <p:nvPr/>
          </p:nvSpPr>
          <p:spPr>
            <a:xfrm>
              <a:off x="4191120" y="4876920"/>
              <a:ext cx="989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586760" y="43434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4199040" y="4343400"/>
            <a:ext cx="990360" cy="1495800"/>
            <a:chOff x="4199040" y="4343400"/>
            <a:chExt cx="990360" cy="1495800"/>
          </a:xfrm>
        </p:grpSpPr>
        <p:sp>
          <p:nvSpPr>
            <p:cNvPr id="276" name=""/>
            <p:cNvSpPr/>
            <p:nvPr/>
          </p:nvSpPr>
          <p:spPr>
            <a:xfrm>
              <a:off x="4199040" y="5257800"/>
              <a:ext cx="990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1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343400" y="43434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"/>
          <p:cNvGrpSpPr/>
          <p:nvPr/>
        </p:nvGrpSpPr>
        <p:grpSpPr>
          <a:xfrm>
            <a:off x="4164120" y="4343400"/>
            <a:ext cx="1017360" cy="1876680"/>
            <a:chOff x="4164120" y="4343400"/>
            <a:chExt cx="1017360" cy="1876680"/>
          </a:xfrm>
        </p:grpSpPr>
        <p:sp>
          <p:nvSpPr>
            <p:cNvPr id="279" name=""/>
            <p:cNvSpPr/>
            <p:nvPr/>
          </p:nvSpPr>
          <p:spPr>
            <a:xfrm>
              <a:off x="4164120" y="5638680"/>
              <a:ext cx="1017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01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343400" y="4343400"/>
              <a:ext cx="144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1" name=""/>
          <p:cNvGrpSpPr/>
          <p:nvPr/>
        </p:nvGrpSpPr>
        <p:grpSpPr>
          <a:xfrm>
            <a:off x="4191120" y="4343400"/>
            <a:ext cx="1066680" cy="2257920"/>
            <a:chOff x="4191120" y="4343400"/>
            <a:chExt cx="1066680" cy="2257920"/>
          </a:xfrm>
        </p:grpSpPr>
        <p:sp>
          <p:nvSpPr>
            <p:cNvPr id="282" name=""/>
            <p:cNvSpPr/>
            <p:nvPr/>
          </p:nvSpPr>
          <p:spPr>
            <a:xfrm>
              <a:off x="4191120" y="6019920"/>
              <a:ext cx="1066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101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343400" y="43434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uffix of Str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09480" y="11430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is a suffix of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07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12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17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22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27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0"/>
                            </p:stCondLst>
                            <p:childTnLst>
                              <p:par>
                                <p:cTn id="337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3429000" y="5257800"/>
            <a:ext cx="533520" cy="60948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809880" y="4876920"/>
            <a:ext cx="457200" cy="53316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381480" y="4905360"/>
            <a:ext cx="457200" cy="53352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762120" y="4572000"/>
            <a:ext cx="4267080" cy="2057400"/>
            <a:chOff x="762120" y="4572000"/>
            <a:chExt cx="4267080" cy="2057400"/>
          </a:xfrm>
        </p:grpSpPr>
        <p:sp>
          <p:nvSpPr>
            <p:cNvPr id="291" name=""/>
            <p:cNvSpPr/>
            <p:nvPr/>
          </p:nvSpPr>
          <p:spPr>
            <a:xfrm>
              <a:off x="3200400" y="4572000"/>
              <a:ext cx="1828800" cy="20574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2" name=""/>
            <p:cNvGrpSpPr/>
            <p:nvPr/>
          </p:nvGrpSpPr>
          <p:grpSpPr>
            <a:xfrm>
              <a:off x="762120" y="4572000"/>
              <a:ext cx="2361600" cy="2057040"/>
              <a:chOff x="762120" y="4572000"/>
              <a:chExt cx="2361600" cy="2057040"/>
            </a:xfrm>
          </p:grpSpPr>
          <p:sp>
            <p:nvSpPr>
              <p:cNvPr id="293" name=""/>
              <p:cNvSpPr/>
              <p:nvPr/>
            </p:nvSpPr>
            <p:spPr>
              <a:xfrm>
                <a:off x="2881440" y="4572000"/>
                <a:ext cx="242280" cy="2057040"/>
              </a:xfrm>
              <a:custGeom>
                <a:avLst/>
                <a:gdLst>
                  <a:gd name="textAreaLeft" fmla="*/ 154800 w 242280"/>
                  <a:gd name="textAreaRight" fmla="*/ 242640 w 242280"/>
                  <a:gd name="textAreaTop" fmla="*/ 53640 h 2057040"/>
                  <a:gd name="textAreaBottom" fmla="*/ 2003400 h 20570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762120" y="5287680"/>
                <a:ext cx="218124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Substrings of 101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95" name=""/>
          <p:cNvGrpSpPr/>
          <p:nvPr/>
        </p:nvGrpSpPr>
        <p:grpSpPr>
          <a:xfrm>
            <a:off x="3429000" y="4952880"/>
            <a:ext cx="5126040" cy="1219320"/>
            <a:chOff x="3429000" y="4952880"/>
            <a:chExt cx="5126040" cy="1219320"/>
          </a:xfrm>
        </p:grpSpPr>
        <p:sp>
          <p:nvSpPr>
            <p:cNvPr id="296" name=""/>
            <p:cNvSpPr/>
            <p:nvPr/>
          </p:nvSpPr>
          <p:spPr>
            <a:xfrm>
              <a:off x="3429000" y="4952880"/>
              <a:ext cx="1752480" cy="121932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7" name=""/>
            <p:cNvGrpSpPr/>
            <p:nvPr/>
          </p:nvGrpSpPr>
          <p:grpSpPr>
            <a:xfrm>
              <a:off x="5257800" y="4952880"/>
              <a:ext cx="3297240" cy="1218960"/>
              <a:chOff x="5257800" y="4952880"/>
              <a:chExt cx="3297240" cy="1218960"/>
            </a:xfrm>
          </p:grpSpPr>
          <p:sp>
            <p:nvSpPr>
              <p:cNvPr id="298" name=""/>
              <p:cNvSpPr/>
              <p:nvPr/>
            </p:nvSpPr>
            <p:spPr>
              <a:xfrm>
                <a:off x="5257800" y="4952880"/>
                <a:ext cx="228600" cy="1218960"/>
              </a:xfrm>
              <a:custGeom>
                <a:avLst/>
                <a:gdLst>
                  <a:gd name="textAreaLeft" fmla="*/ 0 w 228600"/>
                  <a:gd name="textAreaRight" fmla="*/ 82440 w 228600"/>
                  <a:gd name="textAreaTop" fmla="*/ 31680 h 1218960"/>
                  <a:gd name="textAreaBottom" fmla="*/ 1187280 h 1218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86400" y="5040000"/>
                <a:ext cx="306864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Proper substrings of 101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00" name=""/>
          <p:cNvSpPr/>
          <p:nvPr/>
        </p:nvSpPr>
        <p:spPr>
          <a:xfrm>
            <a:off x="4525920" y="3990960"/>
            <a:ext cx="304920" cy="45720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830840" y="3990960"/>
            <a:ext cx="304560" cy="45720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135400" y="3990960"/>
            <a:ext cx="304920" cy="45720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440320" y="3990960"/>
            <a:ext cx="304920" cy="45720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525920" y="3990960"/>
            <a:ext cx="609480" cy="45720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830840" y="3990960"/>
            <a:ext cx="609480" cy="45720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135400" y="3990960"/>
            <a:ext cx="609840" cy="45720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525920" y="3990960"/>
            <a:ext cx="914400" cy="45720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830840" y="3990960"/>
            <a:ext cx="914400" cy="45720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525920" y="3990960"/>
            <a:ext cx="1219320" cy="45720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495680" y="3962520"/>
            <a:ext cx="1266840" cy="53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85800" y="1676520"/>
            <a:ext cx="7772400" cy="14475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85800" y="160020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two strings ove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ubstr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f there are two string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z, z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 ove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o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zxz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’ =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09480" y="3048120"/>
            <a:ext cx="815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 th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roper substr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85800" y="35053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09480" y="342900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nsider 1010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ask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ll substrings of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1 0 1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429000" y="533412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429000" y="44197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352680" y="48769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657600" y="487692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,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352680" y="5410080"/>
            <a:ext cx="1219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429000" y="52578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886200" y="525780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, 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429000" y="5867280"/>
            <a:ext cx="1295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429000" y="563868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1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038480" y="5638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, 0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429000" y="60958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10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ubstr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09480" y="11430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is a substring of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zxz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500"/>
                            </p:stCondLst>
                            <p:childTnLst>
                              <p:par>
                                <p:cTn id="35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56" dur="1" fill="hold">
                                    <p:stCondLst>
                                      <p:cond delay="500"/>
                                    </p:stCondLst>
                                  </p:cTn>
                                  <p:tgtEl>
                                    <p:spTgt spid="3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500"/>
                            </p:stCondLst>
                            <p:childTnLst>
                              <p:par>
                                <p:cTn id="36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64" dur="1" fill="hold">
                                    <p:stCondLst>
                                      <p:cond delay="500"/>
                                    </p:stCondLst>
                                  </p:cTn>
                                  <p:tgtEl>
                                    <p:spTgt spid="30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500"/>
                            </p:stCondLst>
                            <p:childTnLst>
                              <p:par>
                                <p:cTn id="37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72" dur="1" fill="hold">
                                    <p:stCondLst>
                                      <p:cond delay="500"/>
                                    </p:stCondLst>
                                  </p:cTn>
                                  <p:tgtEl>
                                    <p:spTgt spid="30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8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500"/>
                            </p:stCondLst>
                            <p:childTnLst>
                              <p:par>
                                <p:cTn id="37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81" dur="1" fill="hold">
                                    <p:stCondLst>
                                      <p:cond delay="500"/>
                                    </p:stCondLst>
                                  </p:cTn>
                                  <p:tgtEl>
                                    <p:spTgt spid="30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8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8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500"/>
                            </p:stCondLst>
                            <p:childTnLst>
                              <p:par>
                                <p:cTn id="38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90" dur="1" fill="hold">
                                    <p:stCondLst>
                                      <p:cond delay="500"/>
                                    </p:stCondLst>
                                  </p:cTn>
                                  <p:tgtEl>
                                    <p:spTgt spid="30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500"/>
                            </p:stCondLst>
                            <p:childTnLst>
                              <p:par>
                                <p:cTn id="39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98" dur="1" fill="hold">
                                    <p:stCondLst>
                                      <p:cond delay="500"/>
                                    </p:stCondLst>
                                  </p:cTn>
                                  <p:tgtEl>
                                    <p:spTgt spid="30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500"/>
                            </p:stCondLst>
                            <p:childTnLst>
                              <p:par>
                                <p:cTn id="40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06" dur="1" fill="hold">
                                    <p:stCondLst>
                                      <p:cond delay="500"/>
                                    </p:stCondLst>
                                  </p:cTn>
                                  <p:tgtEl>
                                    <p:spTgt spid="30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8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500"/>
                            </p:stCondLst>
                            <p:childTnLst>
                              <p:par>
                                <p:cTn id="41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15" dur="1" fill="hold">
                                    <p:stCondLst>
                                      <p:cond delay="500"/>
                                    </p:stCondLst>
                                  </p:cTn>
                                  <p:tgtEl>
                                    <p:spTgt spid="30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500"/>
                            </p:stCondLst>
                            <p:childTnLst>
                              <p:par>
                                <p:cTn id="42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23" dur="1" fill="hold">
                                    <p:stCondLst>
                                      <p:cond delay="500"/>
                                    </p:stCondLst>
                                  </p:cTn>
                                  <p:tgtEl>
                                    <p:spTgt spid="30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31" dur="1" fill="hold">
                                    <p:stCondLst>
                                      <p:cond delay="500"/>
                                    </p:stCondLst>
                                  </p:cTn>
                                  <p:tgtEl>
                                    <p:spTgt spid="30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1500"/>
                            </p:stCondLst>
                            <p:childTnLst>
                              <p:par>
                                <p:cTn id="43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4" nodeType="afterEffect" fill="hold" presetClass="entr" presetID="17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685800" y="1600200"/>
            <a:ext cx="7772400" cy="9381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85800" y="1523880"/>
            <a:ext cx="80773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denote the set of all strings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ver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 Every subset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*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s a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anguage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ver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609480" y="2438280"/>
            <a:ext cx="815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enote the set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85800" y="29718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4" name=""/>
          <p:cNvGrpSpPr/>
          <p:nvPr/>
        </p:nvGrpSpPr>
        <p:grpSpPr>
          <a:xfrm>
            <a:off x="762120" y="3071880"/>
            <a:ext cx="7848360" cy="2146320"/>
            <a:chOff x="762120" y="3071880"/>
            <a:chExt cx="7848360" cy="2146320"/>
          </a:xfrm>
        </p:grpSpPr>
        <p:sp>
          <p:nvSpPr>
            <p:cNvPr id="335" name=""/>
            <p:cNvSpPr/>
            <p:nvPr/>
          </p:nvSpPr>
          <p:spPr>
            <a:xfrm>
              <a:off x="762120" y="3478320"/>
              <a:ext cx="7619760" cy="173988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7391520" y="3071880"/>
              <a:ext cx="1218960" cy="5814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Set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en-US" sz="3200" spc="-1" strike="noStrike" baseline="30000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8153280" y="3681360"/>
              <a:ext cx="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8" name=""/>
          <p:cNvSpPr/>
          <p:nvPr/>
        </p:nvSpPr>
        <p:spPr>
          <a:xfrm>
            <a:off x="1905120" y="6172200"/>
            <a:ext cx="5486400" cy="5796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are languages over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9" name=""/>
          <p:cNvGrpSpPr/>
          <p:nvPr/>
        </p:nvGrpSpPr>
        <p:grpSpPr>
          <a:xfrm>
            <a:off x="6934320" y="4495680"/>
            <a:ext cx="1600200" cy="960480"/>
            <a:chOff x="6934320" y="4495680"/>
            <a:chExt cx="1600200" cy="960480"/>
          </a:xfrm>
        </p:grpSpPr>
        <p:sp>
          <p:nvSpPr>
            <p:cNvPr id="340" name=""/>
            <p:cNvSpPr/>
            <p:nvPr/>
          </p:nvSpPr>
          <p:spPr>
            <a:xfrm>
              <a:off x="7238880" y="4876560"/>
              <a:ext cx="1295640" cy="5796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6934320" y="4495680"/>
              <a:ext cx="685800" cy="228600"/>
            </a:xfrm>
            <a:prstGeom prst="ellipse">
              <a:avLst/>
            </a:prstGeom>
            <a:solidFill>
              <a:srgbClr val="3366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620120" y="4647960"/>
              <a:ext cx="60948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3" name=""/>
          <p:cNvGrpSpPr/>
          <p:nvPr/>
        </p:nvGrpSpPr>
        <p:grpSpPr>
          <a:xfrm>
            <a:off x="609480" y="4062240"/>
            <a:ext cx="1600200" cy="1417680"/>
            <a:chOff x="609480" y="4062240"/>
            <a:chExt cx="1600200" cy="1417680"/>
          </a:xfrm>
        </p:grpSpPr>
        <p:sp>
          <p:nvSpPr>
            <p:cNvPr id="344" name=""/>
            <p:cNvSpPr/>
            <p:nvPr/>
          </p:nvSpPr>
          <p:spPr>
            <a:xfrm>
              <a:off x="1143000" y="4062240"/>
              <a:ext cx="609480" cy="685800"/>
            </a:xfrm>
            <a:prstGeom prst="ellipse">
              <a:avLst/>
            </a:prstGeom>
            <a:solidFill>
              <a:srgbClr val="3366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609480" y="4900320"/>
              <a:ext cx="1600200" cy="5796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H="1">
              <a:off x="914400" y="4519440"/>
              <a:ext cx="23976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7" name=""/>
          <p:cNvGrpSpPr/>
          <p:nvPr/>
        </p:nvGrpSpPr>
        <p:grpSpPr>
          <a:xfrm>
            <a:off x="2743200" y="3962520"/>
            <a:ext cx="5791320" cy="2153880"/>
            <a:chOff x="2743200" y="3962520"/>
            <a:chExt cx="5791320" cy="2153880"/>
          </a:xfrm>
        </p:grpSpPr>
        <p:sp>
          <p:nvSpPr>
            <p:cNvPr id="348" name=""/>
            <p:cNvSpPr/>
            <p:nvPr/>
          </p:nvSpPr>
          <p:spPr>
            <a:xfrm>
              <a:off x="2743200" y="4114440"/>
              <a:ext cx="3276720" cy="990360"/>
            </a:xfrm>
            <a:prstGeom prst="ellipse">
              <a:avLst/>
            </a:prstGeom>
            <a:solidFill>
              <a:srgbClr val="3366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4267080" y="5486040"/>
              <a:ext cx="4267440" cy="6303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is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substring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of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 flipH="1" flipV="1">
              <a:off x="5486400" y="4952880"/>
              <a:ext cx="533520" cy="532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5257800" y="3962520"/>
              <a:ext cx="990720" cy="106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>
                <a:spcBef>
                  <a:spcPts val="4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6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6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2" name=""/>
          <p:cNvGrpSpPr/>
          <p:nvPr/>
        </p:nvGrpSpPr>
        <p:grpSpPr>
          <a:xfrm>
            <a:off x="1371600" y="3733920"/>
            <a:ext cx="2743200" cy="2382480"/>
            <a:chOff x="1371600" y="3733920"/>
            <a:chExt cx="2743200" cy="2382480"/>
          </a:xfrm>
        </p:grpSpPr>
        <p:sp>
          <p:nvSpPr>
            <p:cNvPr id="353" name=""/>
            <p:cNvSpPr/>
            <p:nvPr/>
          </p:nvSpPr>
          <p:spPr>
            <a:xfrm>
              <a:off x="1752480" y="3733920"/>
              <a:ext cx="1219320" cy="837720"/>
            </a:xfrm>
            <a:prstGeom prst="ellipse">
              <a:avLst/>
            </a:prstGeom>
            <a:solidFill>
              <a:srgbClr val="3366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371600" y="5486040"/>
              <a:ext cx="2743200" cy="6303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H="1" flipV="1">
              <a:off x="2438280" y="4571280"/>
              <a:ext cx="152640" cy="914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6" name=""/>
          <p:cNvSpPr/>
          <p:nvPr/>
        </p:nvSpPr>
        <p:spPr>
          <a:xfrm>
            <a:off x="609480" y="2895480"/>
            <a:ext cx="693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nside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7" name=""/>
          <p:cNvGrpSpPr/>
          <p:nvPr/>
        </p:nvGrpSpPr>
        <p:grpSpPr>
          <a:xfrm>
            <a:off x="1295280" y="3505320"/>
            <a:ext cx="7391520" cy="1434600"/>
            <a:chOff x="1295280" y="3505320"/>
            <a:chExt cx="7391520" cy="1434600"/>
          </a:xfrm>
        </p:grpSpPr>
        <p:sp>
          <p:nvSpPr>
            <p:cNvPr id="358" name=""/>
            <p:cNvSpPr/>
            <p:nvPr/>
          </p:nvSpPr>
          <p:spPr>
            <a:xfrm>
              <a:off x="5334120" y="3581280"/>
              <a:ext cx="76176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295280" y="4114440"/>
              <a:ext cx="30492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886200" y="3505320"/>
              <a:ext cx="68580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124080" y="3581280"/>
              <a:ext cx="60984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048120" y="4343040"/>
              <a:ext cx="60948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648320" y="3505320"/>
              <a:ext cx="60948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6172200" y="3733560"/>
              <a:ext cx="76212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00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733920" y="4267080"/>
              <a:ext cx="76176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01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572000" y="4419360"/>
              <a:ext cx="76212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1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696080" y="3581280"/>
              <a:ext cx="990720" cy="106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6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6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6095880" y="4419360"/>
              <a:ext cx="76212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01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7010280" y="3885840"/>
              <a:ext cx="76212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11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1981080" y="3885840"/>
              <a:ext cx="30492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2438280" y="3885840"/>
              <a:ext cx="30492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Langu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09480" y="10666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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</a:t>
            </a:r>
            <a:r>
              <a:rPr b="1" lang="en-US" sz="3200" spc="-1" strike="noStrike" baseline="30000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500"/>
                            </p:stCondLst>
                            <p:childTnLst>
                              <p:par>
                                <p:cTn id="45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9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500"/>
                            </p:stCondLst>
                            <p:childTnLst>
                              <p:par>
                                <p:cTn id="48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685800" y="2133720"/>
            <a:ext cx="7772400" cy="9144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85800" y="2057400"/>
            <a:ext cx="80010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A language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finite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contains a finite number of strings; otherwise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infinit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09480" y="2971800"/>
            <a:ext cx="815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be a set; card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is the number of its members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85800" y="3429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9" name=""/>
          <p:cNvGrpSpPr/>
          <p:nvPr/>
        </p:nvGrpSpPr>
        <p:grpSpPr>
          <a:xfrm>
            <a:off x="609840" y="3352680"/>
            <a:ext cx="7772040" cy="3292200"/>
            <a:chOff x="609840" y="3352680"/>
            <a:chExt cx="7772040" cy="3292200"/>
          </a:xfrm>
        </p:grpSpPr>
        <p:sp>
          <p:nvSpPr>
            <p:cNvPr id="380" name=""/>
            <p:cNvSpPr/>
            <p:nvPr/>
          </p:nvSpPr>
          <p:spPr>
            <a:xfrm>
              <a:off x="609840" y="3352680"/>
              <a:ext cx="2012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Examples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711000" y="3886200"/>
              <a:ext cx="55645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is </a:t>
              </a:r>
              <a:r>
                <a:rPr b="1" lang="cs-CZ" sz="2800" spc="-1" strike="noStrike">
                  <a:solidFill>
                    <a:srgbClr val="3333cc"/>
                  </a:solidFill>
                  <a:latin typeface="Times New Roman"/>
                </a:rPr>
                <a:t>finite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because card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1" lang="cs-CZ" sz="28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707400" y="4343400"/>
              <a:ext cx="58665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is </a:t>
              </a:r>
              <a:r>
                <a:rPr b="1" lang="cs-CZ" sz="2800" spc="-1" strike="noStrike">
                  <a:solidFill>
                    <a:srgbClr val="3333cc"/>
                  </a:solidFill>
                  <a:latin typeface="Times New Roman"/>
                </a:rPr>
                <a:t>finite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because card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1" lang="cs-CZ" sz="2800" spc="-1" strike="noStrike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685800" y="4807080"/>
              <a:ext cx="7543800" cy="106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0, 1}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is </a:t>
              </a:r>
              <a:r>
                <a:rPr b="1" lang="cs-CZ" sz="2800" spc="-1" strike="noStrike">
                  <a:solidFill>
                    <a:srgbClr val="3333cc"/>
                  </a:solidFill>
                  <a:latin typeface="Times New Roman"/>
                </a:rPr>
                <a:t>finite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because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                                         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card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1" lang="cs-CZ" sz="2800" spc="-1" strike="noStrike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85800" y="5638680"/>
              <a:ext cx="7696080" cy="10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is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substring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of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 = {10, 010, 100, … } 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                                                   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is </a:t>
              </a:r>
              <a:r>
                <a:rPr b="1" lang="cs-CZ" sz="2800" spc="-1" strike="noStrike">
                  <a:solidFill>
                    <a:srgbClr val="ff0000"/>
                  </a:solidFill>
                  <a:latin typeface="Times New Roman"/>
                </a:rPr>
                <a:t>infinit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inite and Infinite Langu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609480" y="1066680"/>
            <a:ext cx="8077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finite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language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contains a finite number of str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5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685800" y="1676520"/>
            <a:ext cx="7772400" cy="14475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609480" y="1600200"/>
            <a:ext cx="8001000" cy="17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wo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anguage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ve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 Th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unio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is defined a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685800" y="3200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609480" y="3124080"/>
            <a:ext cx="8072640" cy="1639440"/>
            <a:chOff x="609480" y="3124080"/>
            <a:chExt cx="8072640" cy="1639440"/>
          </a:xfrm>
        </p:grpSpPr>
        <p:sp>
          <p:nvSpPr>
            <p:cNvPr id="392" name=""/>
            <p:cNvSpPr/>
            <p:nvPr/>
          </p:nvSpPr>
          <p:spPr>
            <a:xfrm>
              <a:off x="609480" y="3124080"/>
              <a:ext cx="8072640" cy="12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Example: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Consider languages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0, 1, 00, 01},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00, 01, 10, 11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609480" y="4114800"/>
              <a:ext cx="35816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Task: 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4" name=""/>
          <p:cNvGrpSpPr/>
          <p:nvPr/>
        </p:nvGrpSpPr>
        <p:grpSpPr>
          <a:xfrm>
            <a:off x="2895480" y="3809880"/>
            <a:ext cx="5638680" cy="1828800"/>
            <a:chOff x="2895480" y="3809880"/>
            <a:chExt cx="5638680" cy="1828800"/>
          </a:xfrm>
        </p:grpSpPr>
        <p:sp>
          <p:nvSpPr>
            <p:cNvPr id="395" name=""/>
            <p:cNvSpPr/>
            <p:nvPr/>
          </p:nvSpPr>
          <p:spPr>
            <a:xfrm>
              <a:off x="5028840" y="3809880"/>
              <a:ext cx="2438640" cy="1828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962160" y="3809880"/>
              <a:ext cx="2438280" cy="1828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028840" y="3809880"/>
              <a:ext cx="2438640" cy="1828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2895480" y="4876920"/>
              <a:ext cx="685800" cy="6487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7848360" y="4876920"/>
              <a:ext cx="685800" cy="6487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 flipV="1">
              <a:off x="3581280" y="4876920"/>
              <a:ext cx="38088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467480" y="4876920"/>
              <a:ext cx="38088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2" name=""/>
            <p:cNvGrpSpPr/>
            <p:nvPr/>
          </p:nvGrpSpPr>
          <p:grpSpPr>
            <a:xfrm>
              <a:off x="4419360" y="4114800"/>
              <a:ext cx="2666880" cy="1206360"/>
              <a:chOff x="4419360" y="4114800"/>
              <a:chExt cx="2666880" cy="1206360"/>
            </a:xfrm>
          </p:grpSpPr>
          <p:sp>
            <p:nvSpPr>
              <p:cNvPr id="403" name=""/>
              <p:cNvSpPr/>
              <p:nvPr/>
            </p:nvSpPr>
            <p:spPr>
              <a:xfrm>
                <a:off x="4419360" y="4114800"/>
                <a:ext cx="45720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4419360" y="4800600"/>
                <a:ext cx="45720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5409720" y="4114800"/>
                <a:ext cx="60984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5409720" y="4800600"/>
                <a:ext cx="60984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6476760" y="4114800"/>
                <a:ext cx="60948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1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6476760" y="4800600"/>
                <a:ext cx="60948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1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Union of Langu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09480" y="1066680"/>
            <a:ext cx="7772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Union of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and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is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1" name=""/>
          <p:cNvGrpSpPr/>
          <p:nvPr/>
        </p:nvGrpSpPr>
        <p:grpSpPr>
          <a:xfrm>
            <a:off x="2666880" y="3809880"/>
            <a:ext cx="5333760" cy="2630160"/>
            <a:chOff x="2666880" y="3809880"/>
            <a:chExt cx="5333760" cy="2630160"/>
          </a:xfrm>
        </p:grpSpPr>
        <p:grpSp>
          <p:nvGrpSpPr>
            <p:cNvPr id="412" name=""/>
            <p:cNvGrpSpPr/>
            <p:nvPr/>
          </p:nvGrpSpPr>
          <p:grpSpPr>
            <a:xfrm>
              <a:off x="2666880" y="3809880"/>
              <a:ext cx="5333760" cy="2630160"/>
              <a:chOff x="2666880" y="3809880"/>
              <a:chExt cx="5333760" cy="2630160"/>
            </a:xfrm>
          </p:grpSpPr>
          <p:sp>
            <p:nvSpPr>
              <p:cNvPr id="413" name=""/>
              <p:cNvSpPr/>
              <p:nvPr/>
            </p:nvSpPr>
            <p:spPr>
              <a:xfrm>
                <a:off x="2666880" y="5791320"/>
                <a:ext cx="5333760" cy="648720"/>
              </a:xfrm>
              <a:prstGeom prst="rect">
                <a:avLst/>
              </a:prstGeom>
              <a:noFill/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r>
                  <a:rPr b="1" lang="en-US" sz="32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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r>
                  <a:rPr b="1" lang="en-US" sz="32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1" lang="cs-CZ" sz="3200" spc="-1" strike="noStrike">
                    <a:solidFill>
                      <a:srgbClr val="000000"/>
                    </a:solidFill>
                    <a:latin typeface="Times New Roman"/>
                  </a:rPr>
                  <a:t> = 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{0, 1, 00, 01, 10, 11}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5714640" y="556272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15" name=""/>
              <p:cNvGrpSpPr/>
              <p:nvPr/>
            </p:nvGrpSpPr>
            <p:grpSpPr>
              <a:xfrm>
                <a:off x="3962160" y="3809880"/>
                <a:ext cx="3504960" cy="1828800"/>
                <a:chOff x="3962160" y="3809880"/>
                <a:chExt cx="3504960" cy="1828800"/>
              </a:xfrm>
            </p:grpSpPr>
            <p:sp>
              <p:nvSpPr>
                <p:cNvPr id="416" name=""/>
                <p:cNvSpPr/>
                <p:nvPr/>
              </p:nvSpPr>
              <p:spPr>
                <a:xfrm>
                  <a:off x="3962160" y="3809880"/>
                  <a:ext cx="2438280" cy="1828800"/>
                </a:xfrm>
                <a:prstGeom prst="ellipse">
                  <a:avLst/>
                </a:prstGeom>
                <a:solidFill>
                  <a:srgbClr val="3366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>
                  <a:off x="5028840" y="3809880"/>
                  <a:ext cx="2438280" cy="1828800"/>
                </a:xfrm>
                <a:prstGeom prst="ellipse">
                  <a:avLst/>
                </a:prstGeom>
                <a:solidFill>
                  <a:srgbClr val="3366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>
                  <a:off x="3962160" y="3809880"/>
                  <a:ext cx="2438280" cy="1828800"/>
                </a:xfrm>
                <a:prstGeom prst="ellipse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19" name=""/>
            <p:cNvGrpSpPr/>
            <p:nvPr/>
          </p:nvGrpSpPr>
          <p:grpSpPr>
            <a:xfrm>
              <a:off x="4419360" y="4114800"/>
              <a:ext cx="2666880" cy="1206000"/>
              <a:chOff x="4419360" y="4114800"/>
              <a:chExt cx="2666880" cy="1206000"/>
            </a:xfrm>
          </p:grpSpPr>
          <p:sp>
            <p:nvSpPr>
              <p:cNvPr id="420" name=""/>
              <p:cNvSpPr/>
              <p:nvPr/>
            </p:nvSpPr>
            <p:spPr>
              <a:xfrm>
                <a:off x="4419360" y="4114800"/>
                <a:ext cx="45720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4419360" y="4800240"/>
                <a:ext cx="45720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5409720" y="4114800"/>
                <a:ext cx="60984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5409720" y="4800240"/>
                <a:ext cx="60984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6476760" y="4114800"/>
                <a:ext cx="60948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1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6476760" y="4800240"/>
                <a:ext cx="60948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1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2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3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2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7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7" name=""/>
          <p:cNvGrpSpPr/>
          <p:nvPr/>
        </p:nvGrpSpPr>
        <p:grpSpPr>
          <a:xfrm>
            <a:off x="520560" y="3124080"/>
            <a:ext cx="7848720" cy="1639440"/>
            <a:chOff x="520560" y="3124080"/>
            <a:chExt cx="7848720" cy="1639440"/>
          </a:xfrm>
        </p:grpSpPr>
        <p:sp>
          <p:nvSpPr>
            <p:cNvPr id="428" name=""/>
            <p:cNvSpPr/>
            <p:nvPr/>
          </p:nvSpPr>
          <p:spPr>
            <a:xfrm>
              <a:off x="520560" y="3124080"/>
              <a:ext cx="7848720" cy="12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Example: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Consider languages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0, 1, 00, 01},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00, 01, 10, 11}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520560" y="4114800"/>
              <a:ext cx="35053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Task: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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0" name=""/>
          <p:cNvGrpSpPr/>
          <p:nvPr/>
        </p:nvGrpSpPr>
        <p:grpSpPr>
          <a:xfrm>
            <a:off x="2895480" y="3809880"/>
            <a:ext cx="5638680" cy="1828800"/>
            <a:chOff x="2895480" y="3809880"/>
            <a:chExt cx="5638680" cy="1828800"/>
          </a:xfrm>
        </p:grpSpPr>
        <p:sp>
          <p:nvSpPr>
            <p:cNvPr id="431" name=""/>
            <p:cNvSpPr/>
            <p:nvPr/>
          </p:nvSpPr>
          <p:spPr>
            <a:xfrm>
              <a:off x="5029200" y="3809880"/>
              <a:ext cx="2438280" cy="1828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3962160" y="3809880"/>
              <a:ext cx="2438640" cy="1828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5029200" y="3809880"/>
              <a:ext cx="2438280" cy="1828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895480" y="4724280"/>
              <a:ext cx="685800" cy="6487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7848360" y="4724280"/>
              <a:ext cx="685800" cy="6487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V="1">
              <a:off x="3581280" y="4724280"/>
              <a:ext cx="38088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7467480" y="4724280"/>
              <a:ext cx="38088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8" name=""/>
            <p:cNvGrpSpPr/>
            <p:nvPr/>
          </p:nvGrpSpPr>
          <p:grpSpPr>
            <a:xfrm>
              <a:off x="4419360" y="4114440"/>
              <a:ext cx="2666880" cy="1206360"/>
              <a:chOff x="4419360" y="4114440"/>
              <a:chExt cx="2666880" cy="1206360"/>
            </a:xfrm>
          </p:grpSpPr>
          <p:sp>
            <p:nvSpPr>
              <p:cNvPr id="439" name=""/>
              <p:cNvSpPr/>
              <p:nvPr/>
            </p:nvSpPr>
            <p:spPr>
              <a:xfrm>
                <a:off x="4419360" y="4114440"/>
                <a:ext cx="45720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4419360" y="4800240"/>
                <a:ext cx="45720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5409720" y="4114440"/>
                <a:ext cx="60984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5409720" y="4800240"/>
                <a:ext cx="60984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6476760" y="4114440"/>
                <a:ext cx="60948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1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6476760" y="4800240"/>
                <a:ext cx="60948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1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Intersection of Langu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6" name=""/>
          <p:cNvGrpSpPr/>
          <p:nvPr/>
        </p:nvGrpSpPr>
        <p:grpSpPr>
          <a:xfrm>
            <a:off x="3961800" y="3784320"/>
            <a:ext cx="3505680" cy="2655720"/>
            <a:chOff x="3961800" y="3784320"/>
            <a:chExt cx="3505680" cy="2655720"/>
          </a:xfrm>
        </p:grpSpPr>
        <p:grpSp>
          <p:nvGrpSpPr>
            <p:cNvPr id="447" name=""/>
            <p:cNvGrpSpPr/>
            <p:nvPr/>
          </p:nvGrpSpPr>
          <p:grpSpPr>
            <a:xfrm>
              <a:off x="3961800" y="3784320"/>
              <a:ext cx="3505680" cy="2655720"/>
              <a:chOff x="3961800" y="3784320"/>
              <a:chExt cx="3505680" cy="2655720"/>
            </a:xfrm>
          </p:grpSpPr>
          <p:sp>
            <p:nvSpPr>
              <p:cNvPr id="448" name=""/>
              <p:cNvSpPr/>
              <p:nvPr/>
            </p:nvSpPr>
            <p:spPr>
              <a:xfrm>
                <a:off x="4038480" y="5791320"/>
                <a:ext cx="3429000" cy="648720"/>
              </a:xfrm>
              <a:prstGeom prst="rect">
                <a:avLst/>
              </a:prstGeom>
              <a:noFill/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r>
                  <a:rPr b="1" lang="en-US" sz="32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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r>
                  <a:rPr b="1" lang="en-US" sz="32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1" lang="cs-CZ" sz="3200" spc="-1" strike="noStrike">
                    <a:solidFill>
                      <a:srgbClr val="000000"/>
                    </a:solidFill>
                    <a:latin typeface="Times New Roman"/>
                  </a:rPr>
                  <a:t> = 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{00, 01}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49" name=""/>
              <p:cNvGrpSpPr/>
              <p:nvPr/>
            </p:nvGrpSpPr>
            <p:grpSpPr>
              <a:xfrm>
                <a:off x="3961800" y="3784320"/>
                <a:ext cx="3504240" cy="1888200"/>
                <a:chOff x="3961800" y="3784320"/>
                <a:chExt cx="3504240" cy="1888200"/>
              </a:xfrm>
            </p:grpSpPr>
            <p:sp>
              <p:nvSpPr>
                <p:cNvPr id="450" name=""/>
                <p:cNvSpPr/>
                <p:nvPr/>
              </p:nvSpPr>
              <p:spPr>
                <a:xfrm>
                  <a:off x="3961800" y="3784320"/>
                  <a:ext cx="2438280" cy="18882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5685" y="1168"/>
                      </a:moveTo>
                      <a:arcTo wR="10800" hR="10800" stAng="-3786548" swAng="760950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5685" y="1168"/>
                      </a:moveTo>
                      <a:arcTo wR="10800" hR="10800" stAng="-3786548" swAng="7609503"/>
                    </a:path>
                  </a:pathLst>
                </a:custGeom>
                <a:solidFill>
                  <a:srgbClr val="3366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1" name=""/>
                <p:cNvSpPr/>
                <p:nvPr/>
              </p:nvSpPr>
              <p:spPr>
                <a:xfrm flipH="1">
                  <a:off x="5028120" y="3784320"/>
                  <a:ext cx="2437560" cy="18882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5685" y="1168"/>
                      </a:moveTo>
                      <a:arcTo wR="10800" hR="10800" stAng="-3786548" swAng="760950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5685" y="1168"/>
                      </a:moveTo>
                      <a:arcTo wR="10800" hR="10800" stAng="-3786548" swAng="7609503"/>
                    </a:path>
                  </a:pathLst>
                </a:custGeom>
                <a:solidFill>
                  <a:srgbClr val="3366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52" name=""/>
              <p:cNvSpPr/>
              <p:nvPr/>
            </p:nvSpPr>
            <p:spPr>
              <a:xfrm>
                <a:off x="5714640" y="556272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3" name=""/>
            <p:cNvSpPr/>
            <p:nvPr/>
          </p:nvSpPr>
          <p:spPr>
            <a:xfrm>
              <a:off x="5410080" y="4114800"/>
              <a:ext cx="60948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5410080" y="4800600"/>
              <a:ext cx="60948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609480" y="1066680"/>
            <a:ext cx="7772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Intersection of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and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is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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685800" y="1676520"/>
            <a:ext cx="7772400" cy="14475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685800" y="1600200"/>
            <a:ext cx="8077320" cy="176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wo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anguage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ve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 Th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intersec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define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a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a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685800" y="3200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8" dur="indefinite" restart="never" nodeType="tmRoot">
          <p:childTnLst>
            <p:seq>
              <p:cTn id="509" dur="indefinite" nodeType="mainSeq">
                <p:childTnLst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4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9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"/>
          <p:cNvSpPr/>
          <p:nvPr/>
        </p:nvSpPr>
        <p:spPr>
          <a:xfrm>
            <a:off x="685800" y="1600200"/>
            <a:ext cx="7772400" cy="14479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85800" y="1523880"/>
            <a:ext cx="8001000" cy="168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w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anguag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v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differenc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defined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a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85800" y="3124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3" name=""/>
          <p:cNvGrpSpPr/>
          <p:nvPr/>
        </p:nvGrpSpPr>
        <p:grpSpPr>
          <a:xfrm>
            <a:off x="609480" y="3048120"/>
            <a:ext cx="7848720" cy="1639440"/>
            <a:chOff x="609480" y="3048120"/>
            <a:chExt cx="7848720" cy="1639440"/>
          </a:xfrm>
        </p:grpSpPr>
        <p:sp>
          <p:nvSpPr>
            <p:cNvPr id="464" name=""/>
            <p:cNvSpPr/>
            <p:nvPr/>
          </p:nvSpPr>
          <p:spPr>
            <a:xfrm>
              <a:off x="609480" y="3048120"/>
              <a:ext cx="7848720" cy="12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Example: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Consider languages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0, 1, 00, 01},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00, 01, 10, 11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09480" y="4038840"/>
              <a:ext cx="32767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Task: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–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6" name=""/>
          <p:cNvGrpSpPr/>
          <p:nvPr/>
        </p:nvGrpSpPr>
        <p:grpSpPr>
          <a:xfrm>
            <a:off x="2895480" y="3733920"/>
            <a:ext cx="5638680" cy="1828800"/>
            <a:chOff x="2895480" y="3733920"/>
            <a:chExt cx="5638680" cy="1828800"/>
          </a:xfrm>
        </p:grpSpPr>
        <p:sp>
          <p:nvSpPr>
            <p:cNvPr id="467" name=""/>
            <p:cNvSpPr/>
            <p:nvPr/>
          </p:nvSpPr>
          <p:spPr>
            <a:xfrm>
              <a:off x="3962160" y="3733920"/>
              <a:ext cx="2438280" cy="1828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8" name=""/>
            <p:cNvGrpSpPr/>
            <p:nvPr/>
          </p:nvGrpSpPr>
          <p:grpSpPr>
            <a:xfrm>
              <a:off x="2895480" y="3733920"/>
              <a:ext cx="5638680" cy="1828800"/>
              <a:chOff x="2895480" y="3733920"/>
              <a:chExt cx="5638680" cy="1828800"/>
            </a:xfrm>
          </p:grpSpPr>
          <p:sp>
            <p:nvSpPr>
              <p:cNvPr id="469" name=""/>
              <p:cNvSpPr/>
              <p:nvPr/>
            </p:nvSpPr>
            <p:spPr>
              <a:xfrm>
                <a:off x="2895480" y="4648320"/>
                <a:ext cx="685800" cy="64872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r>
                  <a:rPr b="0" lang="en-US" sz="32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581280" y="4647960"/>
                <a:ext cx="38088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5029200" y="3733920"/>
                <a:ext cx="2438280" cy="182880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3962160" y="3733920"/>
                <a:ext cx="2438640" cy="182880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7848360" y="4648320"/>
                <a:ext cx="685800" cy="64872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r>
                  <a:rPr b="0" lang="en-US" sz="32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7467480" y="4648320"/>
                <a:ext cx="38088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5" name=""/>
            <p:cNvGrpSpPr/>
            <p:nvPr/>
          </p:nvGrpSpPr>
          <p:grpSpPr>
            <a:xfrm>
              <a:off x="4419360" y="4038840"/>
              <a:ext cx="2666880" cy="1206360"/>
              <a:chOff x="4419360" y="4038840"/>
              <a:chExt cx="2666880" cy="1206360"/>
            </a:xfrm>
          </p:grpSpPr>
          <p:sp>
            <p:nvSpPr>
              <p:cNvPr id="476" name=""/>
              <p:cNvSpPr/>
              <p:nvPr/>
            </p:nvSpPr>
            <p:spPr>
              <a:xfrm>
                <a:off x="4419360" y="4038840"/>
                <a:ext cx="45720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4419360" y="4724640"/>
                <a:ext cx="45720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409720" y="4038840"/>
                <a:ext cx="60984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409720" y="4724640"/>
                <a:ext cx="60984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6476760" y="4038840"/>
                <a:ext cx="60948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1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6476760" y="4724640"/>
                <a:ext cx="60948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1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ifference of Langu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9480" y="1066680"/>
            <a:ext cx="7772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Difference of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and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is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–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4" name=""/>
          <p:cNvGrpSpPr/>
          <p:nvPr/>
        </p:nvGrpSpPr>
        <p:grpSpPr>
          <a:xfrm>
            <a:off x="3809880" y="3708000"/>
            <a:ext cx="3656520" cy="2731680"/>
            <a:chOff x="3809880" y="3708000"/>
            <a:chExt cx="3656520" cy="2731680"/>
          </a:xfrm>
        </p:grpSpPr>
        <p:sp>
          <p:nvSpPr>
            <p:cNvPr id="485" name=""/>
            <p:cNvSpPr/>
            <p:nvPr/>
          </p:nvSpPr>
          <p:spPr>
            <a:xfrm>
              <a:off x="3809880" y="5790960"/>
              <a:ext cx="2819520" cy="648720"/>
            </a:xfrm>
            <a:prstGeom prst="rect">
              <a:avLst/>
            </a:prstGeom>
            <a:noFill/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 – 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{0, 1}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5181480" y="5562360"/>
              <a:ext cx="0" cy="2282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3962520" y="3733920"/>
              <a:ext cx="2438280" cy="1828440"/>
            </a:xfrm>
            <a:prstGeom prst="ellipse">
              <a:avLst/>
            </a:prstGeom>
            <a:solidFill>
              <a:srgbClr val="3366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4419720" y="4038480"/>
              <a:ext cx="45720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419720" y="4724280"/>
              <a:ext cx="45720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0" name=""/>
            <p:cNvGrpSpPr/>
            <p:nvPr/>
          </p:nvGrpSpPr>
          <p:grpSpPr>
            <a:xfrm>
              <a:off x="3962160" y="3708000"/>
              <a:ext cx="3504240" cy="1887840"/>
              <a:chOff x="3962160" y="3708000"/>
              <a:chExt cx="3504240" cy="1887840"/>
            </a:xfrm>
          </p:grpSpPr>
          <p:sp>
            <p:nvSpPr>
              <p:cNvPr id="491" name=""/>
              <p:cNvSpPr/>
              <p:nvPr/>
            </p:nvSpPr>
            <p:spPr>
              <a:xfrm>
                <a:off x="3962160" y="3708000"/>
                <a:ext cx="2438280" cy="1887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5685" y="1168"/>
                    </a:moveTo>
                    <a:arcTo wR="10800" hR="10800" stAng="-3786548" swAng="760950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5685" y="1168"/>
                    </a:moveTo>
                    <a:arcTo wR="10800" hR="10800" stAng="-3786548" swAng="7609503"/>
                  </a:path>
                </a:pathLst>
              </a:cu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 flipH="1">
                <a:off x="5028480" y="3708000"/>
                <a:ext cx="2437560" cy="1887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5685" y="1168"/>
                    </a:moveTo>
                    <a:arcTo wR="10800" hR="10800" stAng="-3786548" swAng="760950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5685" y="1168"/>
                    </a:moveTo>
                    <a:arcTo wR="10800" hR="10800" stAng="-3786548" swAng="7609503"/>
                  </a:path>
                </a:pathLst>
              </a:cu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3" name=""/>
            <p:cNvSpPr/>
            <p:nvPr/>
          </p:nvSpPr>
          <p:spPr>
            <a:xfrm>
              <a:off x="5410080" y="4038480"/>
              <a:ext cx="60984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5410080" y="4724280"/>
              <a:ext cx="60984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26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31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"/>
          <p:cNvSpPr/>
          <p:nvPr/>
        </p:nvSpPr>
        <p:spPr>
          <a:xfrm>
            <a:off x="685800" y="1676520"/>
            <a:ext cx="7772400" cy="14475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685800" y="160020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a languages ove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ompleme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is defined a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 =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685800" y="3200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4495680" y="213372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3733920" y="266688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1" name=""/>
          <p:cNvGrpSpPr/>
          <p:nvPr/>
        </p:nvGrpSpPr>
        <p:grpSpPr>
          <a:xfrm>
            <a:off x="609480" y="3124080"/>
            <a:ext cx="7848720" cy="1114920"/>
            <a:chOff x="609480" y="3124080"/>
            <a:chExt cx="7848720" cy="1114920"/>
          </a:xfrm>
        </p:grpSpPr>
        <p:sp>
          <p:nvSpPr>
            <p:cNvPr id="502" name=""/>
            <p:cNvSpPr/>
            <p:nvPr/>
          </p:nvSpPr>
          <p:spPr>
            <a:xfrm>
              <a:off x="609480" y="3124080"/>
              <a:ext cx="7848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Example: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Consider language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0, 1, 01, 10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3" name=""/>
            <p:cNvGrpSpPr/>
            <p:nvPr/>
          </p:nvGrpSpPr>
          <p:grpSpPr>
            <a:xfrm>
              <a:off x="609480" y="3657600"/>
              <a:ext cx="2667240" cy="581400"/>
              <a:chOff x="609480" y="3657600"/>
              <a:chExt cx="2667240" cy="581400"/>
            </a:xfrm>
          </p:grpSpPr>
          <p:sp>
            <p:nvSpPr>
              <p:cNvPr id="504" name=""/>
              <p:cNvSpPr/>
              <p:nvPr/>
            </p:nvSpPr>
            <p:spPr>
              <a:xfrm>
                <a:off x="609480" y="3657600"/>
                <a:ext cx="26672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Task:  </a:t>
                </a:r>
                <a:r>
                  <a:rPr b="0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1905120" y="3759120"/>
                <a:ext cx="30456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06" name=""/>
          <p:cNvGrpSpPr/>
          <p:nvPr/>
        </p:nvGrpSpPr>
        <p:grpSpPr>
          <a:xfrm>
            <a:off x="914400" y="3657600"/>
            <a:ext cx="7502040" cy="2286000"/>
            <a:chOff x="914400" y="3657600"/>
            <a:chExt cx="7502040" cy="2286000"/>
          </a:xfrm>
        </p:grpSpPr>
        <p:sp>
          <p:nvSpPr>
            <p:cNvPr id="507" name=""/>
            <p:cNvSpPr/>
            <p:nvPr/>
          </p:nvSpPr>
          <p:spPr>
            <a:xfrm flipH="1">
              <a:off x="8076960" y="4267440"/>
              <a:ext cx="7596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8" name=""/>
            <p:cNvGrpSpPr/>
            <p:nvPr/>
          </p:nvGrpSpPr>
          <p:grpSpPr>
            <a:xfrm>
              <a:off x="914400" y="3657600"/>
              <a:ext cx="7502040" cy="2286000"/>
              <a:chOff x="914400" y="3657600"/>
              <a:chExt cx="7502040" cy="2286000"/>
            </a:xfrm>
          </p:grpSpPr>
          <p:sp>
            <p:nvSpPr>
              <p:cNvPr id="509" name=""/>
              <p:cNvSpPr/>
              <p:nvPr/>
            </p:nvSpPr>
            <p:spPr>
              <a:xfrm>
                <a:off x="914400" y="4114800"/>
                <a:ext cx="7391520" cy="182880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7877520" y="3657600"/>
                <a:ext cx="538920" cy="58140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</a:t>
                </a:r>
                <a:r>
                  <a:rPr b="0" lang="en-US" sz="3200" spc="-1" strike="noStrike" baseline="30000">
                    <a:solidFill>
                      <a:srgbClr val="000000"/>
                    </a:solidFill>
                    <a:latin typeface="Times New Roman"/>
                  </a:rPr>
                  <a:t>*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1" name=""/>
            <p:cNvGrpSpPr/>
            <p:nvPr/>
          </p:nvGrpSpPr>
          <p:grpSpPr>
            <a:xfrm>
              <a:off x="1219320" y="4191120"/>
              <a:ext cx="7010280" cy="1510920"/>
              <a:chOff x="1219320" y="4191120"/>
              <a:chExt cx="7010280" cy="1510920"/>
            </a:xfrm>
          </p:grpSpPr>
          <p:sp>
            <p:nvSpPr>
              <p:cNvPr id="512" name=""/>
              <p:cNvSpPr/>
              <p:nvPr/>
            </p:nvSpPr>
            <p:spPr>
              <a:xfrm>
                <a:off x="7238880" y="4495680"/>
                <a:ext cx="990720" cy="1069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40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6400" spc="-1" strike="noStrike">
                    <a:solidFill>
                      <a:srgbClr val="000000"/>
                    </a:solidFill>
                    <a:latin typeface="Times New Roman"/>
                  </a:rPr>
                  <a:t>...</a:t>
                </a:r>
                <a:endParaRPr b="0" lang="en-US" sz="6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5867280" y="4419720"/>
                <a:ext cx="76212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0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1219320" y="4724280"/>
                <a:ext cx="30456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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4343400" y="4267080"/>
                <a:ext cx="68580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2743200" y="4495680"/>
                <a:ext cx="60948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1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3429000" y="4800600"/>
                <a:ext cx="60948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5105520" y="4191120"/>
                <a:ext cx="60948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1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6781680" y="4572000"/>
                <a:ext cx="76212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0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4343400" y="5105520"/>
                <a:ext cx="76212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1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5181480" y="5105520"/>
                <a:ext cx="76212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10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6019920" y="5181480"/>
                <a:ext cx="76176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1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1905120" y="4724280"/>
                <a:ext cx="30456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2362320" y="4800600"/>
                <a:ext cx="30456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omplement of Langu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609480" y="11430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 =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</a:t>
            </a:r>
            <a:r>
              <a:rPr b="1" lang="en-US" sz="3200" spc="-1" strike="noStrike" baseline="30000">
                <a:solidFill>
                  <a:srgbClr val="ff0000"/>
                </a:solidFill>
                <a:latin typeface="Times New Roman"/>
              </a:rPr>
              <a:t>*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–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1676520" y="1219320"/>
            <a:ext cx="30456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8" name=""/>
          <p:cNvGrpSpPr/>
          <p:nvPr/>
        </p:nvGrpSpPr>
        <p:grpSpPr>
          <a:xfrm>
            <a:off x="914400" y="4114800"/>
            <a:ext cx="7380000" cy="2257920"/>
            <a:chOff x="914400" y="4114800"/>
            <a:chExt cx="7380000" cy="2257920"/>
          </a:xfrm>
        </p:grpSpPr>
        <p:grpSp>
          <p:nvGrpSpPr>
            <p:cNvPr id="529" name=""/>
            <p:cNvGrpSpPr/>
            <p:nvPr/>
          </p:nvGrpSpPr>
          <p:grpSpPr>
            <a:xfrm>
              <a:off x="914400" y="4114800"/>
              <a:ext cx="7380000" cy="2257920"/>
              <a:chOff x="914400" y="4114800"/>
              <a:chExt cx="7380000" cy="2257920"/>
            </a:xfrm>
          </p:grpSpPr>
          <p:sp>
            <p:nvSpPr>
              <p:cNvPr id="530" name=""/>
              <p:cNvSpPr/>
              <p:nvPr/>
            </p:nvSpPr>
            <p:spPr>
              <a:xfrm>
                <a:off x="914400" y="4114800"/>
                <a:ext cx="7380000" cy="1828800"/>
              </a:xfrm>
              <a:prstGeom prst="ellipse">
                <a:avLst/>
              </a:prstGeom>
              <a:solidFill>
                <a:srgbClr val="3366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7619760" y="556272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32" name=""/>
              <p:cNvGrpSpPr/>
              <p:nvPr/>
            </p:nvGrpSpPr>
            <p:grpSpPr>
              <a:xfrm>
                <a:off x="7314840" y="5791320"/>
                <a:ext cx="609120" cy="581400"/>
                <a:chOff x="7314840" y="5791320"/>
                <a:chExt cx="609120" cy="581400"/>
              </a:xfrm>
            </p:grpSpPr>
            <p:sp>
              <p:nvSpPr>
                <p:cNvPr id="533" name=""/>
                <p:cNvSpPr/>
                <p:nvPr/>
              </p:nvSpPr>
              <p:spPr>
                <a:xfrm>
                  <a:off x="7314840" y="5791320"/>
                  <a:ext cx="609120" cy="581400"/>
                </a:xfrm>
                <a:prstGeom prst="rect">
                  <a:avLst/>
                </a:prstGeom>
                <a:noFill/>
                <a:ln w="381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3200" spc="-1" strike="noStrike">
                      <a:solidFill>
                        <a:srgbClr val="000000"/>
                      </a:solidFill>
                      <a:latin typeface="Times New Roman"/>
                    </a:rPr>
                    <a:t>L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4" name=""/>
                <p:cNvSpPr/>
                <p:nvPr/>
              </p:nvSpPr>
              <p:spPr>
                <a:xfrm flipH="1">
                  <a:off x="7466760" y="5892840"/>
                  <a:ext cx="30456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35" name=""/>
            <p:cNvGrpSpPr/>
            <p:nvPr/>
          </p:nvGrpSpPr>
          <p:grpSpPr>
            <a:xfrm>
              <a:off x="1218960" y="4191120"/>
              <a:ext cx="7010640" cy="1510920"/>
              <a:chOff x="1218960" y="4191120"/>
              <a:chExt cx="7010640" cy="1510920"/>
            </a:xfrm>
          </p:grpSpPr>
          <p:sp>
            <p:nvSpPr>
              <p:cNvPr id="536" name=""/>
              <p:cNvSpPr/>
              <p:nvPr/>
            </p:nvSpPr>
            <p:spPr>
              <a:xfrm>
                <a:off x="7238880" y="4495680"/>
                <a:ext cx="990720" cy="1069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40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6400" spc="-1" strike="noStrike">
                    <a:solidFill>
                      <a:srgbClr val="000000"/>
                    </a:solidFill>
                    <a:latin typeface="Times New Roman"/>
                  </a:rPr>
                  <a:t>...</a:t>
                </a:r>
                <a:endParaRPr b="0" lang="en-US" sz="6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5867280" y="4419360"/>
                <a:ext cx="76212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0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1218960" y="4724280"/>
                <a:ext cx="30492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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4343400" y="4267080"/>
                <a:ext cx="68580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5105160" y="4191120"/>
                <a:ext cx="60984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1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6781680" y="4572000"/>
                <a:ext cx="76212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0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4343400" y="5105160"/>
                <a:ext cx="76176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1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5181480" y="5105160"/>
                <a:ext cx="76212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10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6019560" y="5181480"/>
                <a:ext cx="76212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1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45" name=""/>
          <p:cNvGrpSpPr/>
          <p:nvPr/>
        </p:nvGrpSpPr>
        <p:grpSpPr>
          <a:xfrm>
            <a:off x="914400" y="4419720"/>
            <a:ext cx="3429000" cy="1952640"/>
            <a:chOff x="914400" y="4419720"/>
            <a:chExt cx="3429000" cy="1952640"/>
          </a:xfrm>
        </p:grpSpPr>
        <p:sp>
          <p:nvSpPr>
            <p:cNvPr id="546" name=""/>
            <p:cNvSpPr/>
            <p:nvPr/>
          </p:nvSpPr>
          <p:spPr>
            <a:xfrm>
              <a:off x="1600200" y="4419720"/>
              <a:ext cx="2743200" cy="114264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914400" y="5790960"/>
              <a:ext cx="609480" cy="5814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 flipV="1">
              <a:off x="1523880" y="5486400"/>
              <a:ext cx="685800" cy="609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2743200" y="4495680"/>
              <a:ext cx="60948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3429000" y="4800600"/>
              <a:ext cx="60948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1904760" y="4724280"/>
              <a:ext cx="30492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2361960" y="4800600"/>
              <a:ext cx="30492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38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43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48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4" name=""/>
          <p:cNvGrpSpPr/>
          <p:nvPr/>
        </p:nvGrpSpPr>
        <p:grpSpPr>
          <a:xfrm>
            <a:off x="2971800" y="4114800"/>
            <a:ext cx="4114800" cy="2286000"/>
            <a:chOff x="2971800" y="4114800"/>
            <a:chExt cx="4114800" cy="2286000"/>
          </a:xfrm>
        </p:grpSpPr>
        <p:sp>
          <p:nvSpPr>
            <p:cNvPr id="555" name=""/>
            <p:cNvSpPr/>
            <p:nvPr/>
          </p:nvSpPr>
          <p:spPr>
            <a:xfrm>
              <a:off x="2971800" y="4419720"/>
              <a:ext cx="3048120" cy="1981080"/>
            </a:xfrm>
            <a:prstGeom prst="ellipse">
              <a:avLst/>
            </a:prstGeom>
            <a:solidFill>
              <a:srgbClr val="3366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 flipV="1">
              <a:off x="5715000" y="4571640"/>
              <a:ext cx="30492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019920" y="4114800"/>
              <a:ext cx="1066680" cy="6487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8" name=""/>
          <p:cNvSpPr/>
          <p:nvPr/>
        </p:nvSpPr>
        <p:spPr>
          <a:xfrm>
            <a:off x="685800" y="1676520"/>
            <a:ext cx="7772400" cy="14475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609480" y="1600200"/>
            <a:ext cx="8153640" cy="17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w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anguag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v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concaten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defin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a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685800" y="3581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609480" y="304812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Note: 1)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}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3657600" y="4724280"/>
            <a:ext cx="777960" cy="5814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3594240" y="4732200"/>
            <a:ext cx="44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657600" y="5410080"/>
            <a:ext cx="777960" cy="5814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3594240" y="5418000"/>
            <a:ext cx="44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4648320" y="4724280"/>
            <a:ext cx="777600" cy="5814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4584600" y="4732200"/>
            <a:ext cx="44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4648320" y="5410080"/>
            <a:ext cx="777600" cy="5814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4584600" y="5418000"/>
            <a:ext cx="44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0" y="5257800"/>
            <a:ext cx="2057400" cy="160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1" name=""/>
          <p:cNvGrpSpPr/>
          <p:nvPr/>
        </p:nvGrpSpPr>
        <p:grpSpPr>
          <a:xfrm>
            <a:off x="609480" y="4876920"/>
            <a:ext cx="2133720" cy="1676160"/>
            <a:chOff x="609480" y="4876920"/>
            <a:chExt cx="2133720" cy="1676160"/>
          </a:xfrm>
        </p:grpSpPr>
        <p:sp>
          <p:nvSpPr>
            <p:cNvPr id="572" name=""/>
            <p:cNvSpPr/>
            <p:nvPr/>
          </p:nvSpPr>
          <p:spPr>
            <a:xfrm>
              <a:off x="1523880" y="4952880"/>
              <a:ext cx="1219320" cy="16002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09480" y="4876920"/>
              <a:ext cx="685800" cy="6487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295280" y="5181480"/>
              <a:ext cx="30492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905120" y="5105520"/>
              <a:ext cx="457200" cy="5814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905120" y="5791320"/>
              <a:ext cx="457200" cy="5814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7" name=""/>
          <p:cNvSpPr/>
          <p:nvPr/>
        </p:nvSpPr>
        <p:spPr>
          <a:xfrm>
            <a:off x="7086600" y="5105520"/>
            <a:ext cx="2057400" cy="1752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8" name=""/>
          <p:cNvGrpSpPr/>
          <p:nvPr/>
        </p:nvGrpSpPr>
        <p:grpSpPr>
          <a:xfrm>
            <a:off x="6248520" y="4572000"/>
            <a:ext cx="2286000" cy="1981080"/>
            <a:chOff x="6248520" y="4572000"/>
            <a:chExt cx="2286000" cy="1981080"/>
          </a:xfrm>
        </p:grpSpPr>
        <p:sp>
          <p:nvSpPr>
            <p:cNvPr id="579" name=""/>
            <p:cNvSpPr/>
            <p:nvPr/>
          </p:nvSpPr>
          <p:spPr>
            <a:xfrm>
              <a:off x="7848720" y="4572000"/>
              <a:ext cx="685800" cy="6487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 flipV="1">
              <a:off x="7315200" y="4876920"/>
              <a:ext cx="53352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6248520" y="4876920"/>
              <a:ext cx="1371600" cy="167616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6629400" y="5105520"/>
              <a:ext cx="685800" cy="5814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0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6629400" y="5791320"/>
              <a:ext cx="685800" cy="5814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0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4" name=""/>
          <p:cNvSpPr/>
          <p:nvPr/>
        </p:nvSpPr>
        <p:spPr>
          <a:xfrm>
            <a:off x="609480" y="3505320"/>
            <a:ext cx="83822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nsider languag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0, 1}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00, 01}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609480" y="3962520"/>
            <a:ext cx="2900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ask: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oncatenation of Langu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609480" y="1066680"/>
            <a:ext cx="7772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=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y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: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 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L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a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y 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L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7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fill="hold">
                            <p:stCondLst>
                              <p:cond delay="500"/>
                            </p:stCondLst>
                            <p:childTnLst>
                              <p:par>
                                <p:cTn id="566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500"/>
                            </p:stCondLst>
                            <p:childTnLst>
                              <p:par>
                                <p:cTn id="577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500"/>
                            </p:stCondLst>
                            <p:childTnLst>
                              <p:par>
                                <p:cTn id="588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fill="hold">
                            <p:stCondLst>
                              <p:cond delay="500"/>
                            </p:stCondLst>
                            <p:childTnLst>
                              <p:par>
                                <p:cTn id="599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07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80880" y="1143000"/>
            <a:ext cx="87631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380880"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These lecture notes are based 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3333cc"/>
                </a:solidFill>
                <a:latin typeface="Times New Roman"/>
              </a:rPr>
              <a:t>Automata and Languages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 b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Alexander Meduna, Springer, 20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31240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000" spc="-1" strike="noStrike">
                <a:solidFill>
                  <a:srgbClr val="ffffff"/>
                </a:solidFill>
                <a:latin typeface="Times New Roman"/>
              </a:rPr>
              <a:t>Referenc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9" name=""/>
          <p:cNvGrpSpPr/>
          <p:nvPr/>
        </p:nvGrpSpPr>
        <p:grpSpPr>
          <a:xfrm>
            <a:off x="4438440" y="4267080"/>
            <a:ext cx="3791160" cy="2286000"/>
            <a:chOff x="4438440" y="4267080"/>
            <a:chExt cx="3791160" cy="2286000"/>
          </a:xfrm>
        </p:grpSpPr>
        <p:sp>
          <p:nvSpPr>
            <p:cNvPr id="590" name=""/>
            <p:cNvSpPr/>
            <p:nvPr/>
          </p:nvSpPr>
          <p:spPr>
            <a:xfrm>
              <a:off x="6553080" y="4647960"/>
              <a:ext cx="1676520" cy="1905120"/>
            </a:xfrm>
            <a:prstGeom prst="ellipse">
              <a:avLst/>
            </a:prstGeom>
            <a:solidFill>
              <a:srgbClr val="3366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438440" y="4267080"/>
              <a:ext cx="2014560" cy="5814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reversal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6438960" y="4736880"/>
              <a:ext cx="342720" cy="21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3" name=""/>
          <p:cNvSpPr/>
          <p:nvPr/>
        </p:nvSpPr>
        <p:spPr>
          <a:xfrm>
            <a:off x="685800" y="1676520"/>
            <a:ext cx="7772400" cy="15238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685800" y="160020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a language ove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evers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evers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s defined 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evers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evers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685800" y="3276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6" name=""/>
          <p:cNvGrpSpPr/>
          <p:nvPr/>
        </p:nvGrpSpPr>
        <p:grpSpPr>
          <a:xfrm>
            <a:off x="762120" y="4572000"/>
            <a:ext cx="2286000" cy="2057400"/>
            <a:chOff x="762120" y="4572000"/>
            <a:chExt cx="2286000" cy="2057400"/>
          </a:xfrm>
        </p:grpSpPr>
        <p:sp>
          <p:nvSpPr>
            <p:cNvPr id="597" name=""/>
            <p:cNvSpPr/>
            <p:nvPr/>
          </p:nvSpPr>
          <p:spPr>
            <a:xfrm>
              <a:off x="1676520" y="4572000"/>
              <a:ext cx="1371600" cy="20574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62120" y="4724280"/>
              <a:ext cx="685800" cy="5814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1447920" y="5029200"/>
              <a:ext cx="30492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1905120" y="4952880"/>
              <a:ext cx="914400" cy="5814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905120" y="5638680"/>
              <a:ext cx="914400" cy="5814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r>
                <a:rPr b="1" lang="cs-CZ" sz="3200" spc="-1" strike="noStrike">
                  <a:solidFill>
                    <a:srgbClr val="00cc66"/>
                  </a:solidFill>
                  <a:latin typeface="Times New Roman"/>
                </a:rPr>
                <a:t>1</a:t>
              </a: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2" name=""/>
          <p:cNvGrpSpPr/>
          <p:nvPr/>
        </p:nvGrpSpPr>
        <p:grpSpPr>
          <a:xfrm>
            <a:off x="609480" y="3200400"/>
            <a:ext cx="7848720" cy="1038600"/>
            <a:chOff x="609480" y="3200400"/>
            <a:chExt cx="7848720" cy="1038600"/>
          </a:xfrm>
        </p:grpSpPr>
        <p:sp>
          <p:nvSpPr>
            <p:cNvPr id="603" name=""/>
            <p:cNvSpPr/>
            <p:nvPr/>
          </p:nvSpPr>
          <p:spPr>
            <a:xfrm>
              <a:off x="609480" y="3200400"/>
              <a:ext cx="7848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Example: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Consider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01, 011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09480" y="3657600"/>
              <a:ext cx="3886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Task:  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reversal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5" name=""/>
          <p:cNvSpPr/>
          <p:nvPr/>
        </p:nvSpPr>
        <p:spPr>
          <a:xfrm>
            <a:off x="3124080" y="495288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eversal(      )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5715720" y="4952880"/>
            <a:ext cx="58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7" name=""/>
          <p:cNvGrpSpPr/>
          <p:nvPr/>
        </p:nvGrpSpPr>
        <p:grpSpPr>
          <a:xfrm>
            <a:off x="1905120" y="4952880"/>
            <a:ext cx="3332880" cy="581400"/>
            <a:chOff x="1905120" y="4952880"/>
            <a:chExt cx="3332880" cy="581400"/>
          </a:xfrm>
        </p:grpSpPr>
        <p:sp>
          <p:nvSpPr>
            <p:cNvPr id="608" name=""/>
            <p:cNvSpPr/>
            <p:nvPr/>
          </p:nvSpPr>
          <p:spPr>
            <a:xfrm>
              <a:off x="4649040" y="4952880"/>
              <a:ext cx="588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1905120" y="51814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0" name=""/>
          <p:cNvGrpSpPr/>
          <p:nvPr/>
        </p:nvGrpSpPr>
        <p:grpSpPr>
          <a:xfrm>
            <a:off x="5791320" y="4952880"/>
            <a:ext cx="2057400" cy="581400"/>
            <a:chOff x="5791320" y="4952880"/>
            <a:chExt cx="2057400" cy="581400"/>
          </a:xfrm>
        </p:grpSpPr>
        <p:sp>
          <p:nvSpPr>
            <p:cNvPr id="611" name=""/>
            <p:cNvSpPr/>
            <p:nvPr/>
          </p:nvSpPr>
          <p:spPr>
            <a:xfrm>
              <a:off x="6934320" y="4952880"/>
              <a:ext cx="914400" cy="5814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5791320" y="5029200"/>
              <a:ext cx="0" cy="457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3" name=""/>
          <p:cNvSpPr/>
          <p:nvPr/>
        </p:nvSpPr>
        <p:spPr>
          <a:xfrm>
            <a:off x="3124080" y="563868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eversal(      )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5715360" y="5638680"/>
            <a:ext cx="7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cc66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5" name=""/>
          <p:cNvGrpSpPr/>
          <p:nvPr/>
        </p:nvGrpSpPr>
        <p:grpSpPr>
          <a:xfrm>
            <a:off x="1905120" y="5638680"/>
            <a:ext cx="3460320" cy="581400"/>
            <a:chOff x="1905120" y="5638680"/>
            <a:chExt cx="3460320" cy="581400"/>
          </a:xfrm>
        </p:grpSpPr>
        <p:sp>
          <p:nvSpPr>
            <p:cNvPr id="616" name=""/>
            <p:cNvSpPr/>
            <p:nvPr/>
          </p:nvSpPr>
          <p:spPr>
            <a:xfrm>
              <a:off x="4572360" y="5638680"/>
              <a:ext cx="793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r>
                <a:rPr b="1" lang="cs-CZ" sz="3200" spc="-1" strike="noStrike">
                  <a:solidFill>
                    <a:srgbClr val="00cc66"/>
                  </a:solidFill>
                  <a:latin typeface="Times New Roman"/>
                </a:rPr>
                <a:t>1</a:t>
              </a: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905120" y="58672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8" name=""/>
          <p:cNvGrpSpPr/>
          <p:nvPr/>
        </p:nvGrpSpPr>
        <p:grpSpPr>
          <a:xfrm>
            <a:off x="5791320" y="5638680"/>
            <a:ext cx="2057400" cy="581400"/>
            <a:chOff x="5791320" y="5638680"/>
            <a:chExt cx="2057400" cy="581400"/>
          </a:xfrm>
        </p:grpSpPr>
        <p:sp>
          <p:nvSpPr>
            <p:cNvPr id="619" name=""/>
            <p:cNvSpPr/>
            <p:nvPr/>
          </p:nvSpPr>
          <p:spPr>
            <a:xfrm>
              <a:off x="6934320" y="5638680"/>
              <a:ext cx="914400" cy="5814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lang="cs-CZ" sz="3200" spc="-1" strike="noStrike">
                  <a:solidFill>
                    <a:srgbClr val="00cc66"/>
                  </a:solidFill>
                  <a:latin typeface="Times New Roman"/>
                </a:rPr>
                <a:t>1</a:t>
              </a: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791320" y="5715000"/>
              <a:ext cx="0" cy="457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versal of Langu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609480" y="10666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reversal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) = 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reversal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):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 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L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8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8" dur="indefinite" restart="never" nodeType="tmRoot">
          <p:childTnLst>
            <p:seq>
              <p:cTn id="609" dur="indefinite" nodeType="mainSeq">
                <p:childTnLst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14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19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fill="hold">
                            <p:stCondLst>
                              <p:cond delay="500"/>
                            </p:stCondLst>
                            <p:childTnLst>
                              <p:par>
                                <p:cTn id="62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fill="hold">
                            <p:stCondLst>
                              <p:cond delay="1000"/>
                            </p:stCondLst>
                            <p:childTnLst>
                              <p:par>
                                <p:cTn id="62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28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fill="hold">
                            <p:stCondLst>
                              <p:cond delay="1500"/>
                            </p:stCondLst>
                            <p:childTnLst>
                              <p:par>
                                <p:cTn id="63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40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fill="hold">
                            <p:stCondLst>
                              <p:cond delay="500"/>
                            </p:stCondLst>
                            <p:childTnLst>
                              <p:par>
                                <p:cTn id="64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1000"/>
                            </p:stCondLst>
                            <p:childTnLst>
                              <p:par>
                                <p:cTn id="64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49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fill="hold">
                            <p:stCondLst>
                              <p:cond delay="1500"/>
                            </p:stCondLst>
                            <p:childTnLst>
                              <p:par>
                                <p:cTn id="651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61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"/>
          <p:cNvSpPr/>
          <p:nvPr/>
        </p:nvSpPr>
        <p:spPr>
          <a:xfrm>
            <a:off x="685800" y="1905120"/>
            <a:ext cx="7772400" cy="14475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762120" y="1828800"/>
            <a:ext cx="7772400" cy="15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be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anguage over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i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0, 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th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ow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s defined as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1 then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cs-CZ" sz="32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L</a:t>
            </a:r>
            <a:r>
              <a:rPr b="0" i="1" lang="cs-CZ" sz="32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685800" y="3429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7" name=""/>
          <p:cNvGrpSpPr/>
          <p:nvPr/>
        </p:nvGrpSpPr>
        <p:grpSpPr>
          <a:xfrm>
            <a:off x="4191120" y="4038480"/>
            <a:ext cx="3123720" cy="2638800"/>
            <a:chOff x="4191120" y="4038480"/>
            <a:chExt cx="3123720" cy="2638800"/>
          </a:xfrm>
        </p:grpSpPr>
        <p:sp>
          <p:nvSpPr>
            <p:cNvPr id="628" name=""/>
            <p:cNvSpPr/>
            <p:nvPr/>
          </p:nvSpPr>
          <p:spPr>
            <a:xfrm>
              <a:off x="4191120" y="4038480"/>
              <a:ext cx="3047760" cy="1981440"/>
            </a:xfrm>
            <a:prstGeom prst="ellipse">
              <a:avLst/>
            </a:prstGeom>
            <a:solidFill>
              <a:srgbClr val="3366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 flipH="1" flipV="1">
              <a:off x="6476760" y="5866920"/>
              <a:ext cx="30456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5715000" y="6095880"/>
              <a:ext cx="1599840" cy="5814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32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LL</a:t>
              </a:r>
              <a:r>
                <a:rPr b="0" lang="cs-CZ" sz="3200" spc="-1" strike="noStrike" baseline="30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1" name=""/>
          <p:cNvSpPr/>
          <p:nvPr/>
        </p:nvSpPr>
        <p:spPr>
          <a:xfrm>
            <a:off x="4876920" y="4267080"/>
            <a:ext cx="609480" cy="5814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5105520" y="4280040"/>
            <a:ext cx="44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4876920" y="4952880"/>
            <a:ext cx="777600" cy="5814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5092560" y="4965840"/>
            <a:ext cx="63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867280" y="4267080"/>
            <a:ext cx="777960" cy="5814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6248520" y="4280040"/>
            <a:ext cx="44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5715000" y="4952880"/>
            <a:ext cx="914400" cy="5814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6108840" y="4965840"/>
            <a:ext cx="59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7543800" y="5334120"/>
            <a:ext cx="1600200" cy="1523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91520" y="3733920"/>
            <a:ext cx="1143000" cy="2971800"/>
            <a:chOff x="7391520" y="3733920"/>
            <a:chExt cx="1143000" cy="2971800"/>
          </a:xfrm>
        </p:grpSpPr>
        <p:sp>
          <p:nvSpPr>
            <p:cNvPr id="641" name=""/>
            <p:cNvSpPr/>
            <p:nvPr/>
          </p:nvSpPr>
          <p:spPr>
            <a:xfrm>
              <a:off x="7391520" y="4648320"/>
              <a:ext cx="1143000" cy="20574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7696080" y="3733920"/>
              <a:ext cx="685800" cy="5814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8001000" y="4343400"/>
              <a:ext cx="7632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0120" y="5029200"/>
              <a:ext cx="685800" cy="5814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7620120" y="5715000"/>
              <a:ext cx="685800" cy="5814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0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6" name=""/>
          <p:cNvSpPr/>
          <p:nvPr/>
        </p:nvSpPr>
        <p:spPr>
          <a:xfrm>
            <a:off x="0" y="4419720"/>
            <a:ext cx="3352680" cy="243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7" name=""/>
          <p:cNvGrpSpPr/>
          <p:nvPr/>
        </p:nvGrpSpPr>
        <p:grpSpPr>
          <a:xfrm>
            <a:off x="2057400" y="4495680"/>
            <a:ext cx="3352680" cy="2181600"/>
            <a:chOff x="2057400" y="4495680"/>
            <a:chExt cx="3352680" cy="2181600"/>
          </a:xfrm>
        </p:grpSpPr>
        <p:sp>
          <p:nvSpPr>
            <p:cNvPr id="648" name=""/>
            <p:cNvSpPr/>
            <p:nvPr/>
          </p:nvSpPr>
          <p:spPr>
            <a:xfrm>
              <a:off x="2057400" y="4495680"/>
              <a:ext cx="1523880" cy="190476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3733920" y="6095880"/>
              <a:ext cx="1676160" cy="5814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3200" spc="-1" strike="noStrike" baseline="30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LL</a:t>
              </a:r>
              <a:r>
                <a:rPr b="0" lang="cs-CZ" sz="3200" spc="-1" strike="noStrike" baseline="30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81280" y="5638680"/>
              <a:ext cx="60984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1" name=""/>
          <p:cNvSpPr/>
          <p:nvPr/>
        </p:nvSpPr>
        <p:spPr>
          <a:xfrm>
            <a:off x="2438280" y="4800600"/>
            <a:ext cx="762120" cy="5814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2438280" y="5486400"/>
            <a:ext cx="762120" cy="5814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2666880" y="48006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9933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2819520" y="5486400"/>
            <a:ext cx="44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9933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5" name=""/>
          <p:cNvGrpSpPr/>
          <p:nvPr/>
        </p:nvGrpSpPr>
        <p:grpSpPr>
          <a:xfrm>
            <a:off x="2438280" y="4800600"/>
            <a:ext cx="762120" cy="1267200"/>
            <a:chOff x="2438280" y="4800600"/>
            <a:chExt cx="762120" cy="1267200"/>
          </a:xfrm>
        </p:grpSpPr>
        <p:sp>
          <p:nvSpPr>
            <p:cNvPr id="656" name=""/>
            <p:cNvSpPr/>
            <p:nvPr/>
          </p:nvSpPr>
          <p:spPr>
            <a:xfrm>
              <a:off x="2438280" y="4800600"/>
              <a:ext cx="762120" cy="5814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2438280" y="5486400"/>
              <a:ext cx="762120" cy="5814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0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8" name=""/>
          <p:cNvSpPr/>
          <p:nvPr/>
        </p:nvSpPr>
        <p:spPr>
          <a:xfrm>
            <a:off x="0" y="5334120"/>
            <a:ext cx="1447920" cy="1523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9" name=""/>
          <p:cNvGrpSpPr/>
          <p:nvPr/>
        </p:nvGrpSpPr>
        <p:grpSpPr>
          <a:xfrm>
            <a:off x="762120" y="4572000"/>
            <a:ext cx="838080" cy="2057400"/>
            <a:chOff x="762120" y="4572000"/>
            <a:chExt cx="838080" cy="2057400"/>
          </a:xfrm>
        </p:grpSpPr>
        <p:sp>
          <p:nvSpPr>
            <p:cNvPr id="660" name=""/>
            <p:cNvSpPr/>
            <p:nvPr/>
          </p:nvSpPr>
          <p:spPr>
            <a:xfrm>
              <a:off x="762120" y="5562720"/>
              <a:ext cx="838080" cy="106668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838080" y="4572000"/>
              <a:ext cx="685800" cy="5814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 baseline="30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1143000" y="5181480"/>
              <a:ext cx="7632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990720" y="5791320"/>
              <a:ext cx="380880" cy="5814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ower of Langu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609480" y="10666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i="1" lang="en-US" sz="3200" spc="-1" strike="noStrike" baseline="30000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= LL…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 rot="5400000">
            <a:off x="3009240" y="952200"/>
            <a:ext cx="76320" cy="1219320"/>
          </a:xfrm>
          <a:custGeom>
            <a:avLst/>
            <a:gdLst>
              <a:gd name="textAreaLeft" fmla="*/ 0 w 76320"/>
              <a:gd name="textAreaRight" fmla="*/ 27360 w 7632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2514600" y="15238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-ti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9" name=""/>
          <p:cNvGrpSpPr/>
          <p:nvPr/>
        </p:nvGrpSpPr>
        <p:grpSpPr>
          <a:xfrm>
            <a:off x="685800" y="3352680"/>
            <a:ext cx="7848720" cy="1038600"/>
            <a:chOff x="685800" y="3352680"/>
            <a:chExt cx="7848720" cy="1038600"/>
          </a:xfrm>
        </p:grpSpPr>
        <p:sp>
          <p:nvSpPr>
            <p:cNvPr id="670" name=""/>
            <p:cNvSpPr/>
            <p:nvPr/>
          </p:nvSpPr>
          <p:spPr>
            <a:xfrm>
              <a:off x="685800" y="3352680"/>
              <a:ext cx="7848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Example: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Consider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0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685800" y="3809880"/>
              <a:ext cx="3276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Task: 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32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2" dur="indefinite" restart="never" nodeType="tmRoot">
          <p:childTnLst>
            <p:seq>
              <p:cTn id="663" dur="indefinite" nodeType="mainSeq">
                <p:childTnLst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68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73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fill="hold">
                            <p:stCondLst>
                              <p:cond delay="500"/>
                            </p:stCondLst>
                            <p:childTnLst>
                              <p:par>
                                <p:cTn id="681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500"/>
                            </p:stCondLst>
                            <p:childTnLst>
                              <p:par>
                                <p:cTn id="692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00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fill="hold">
                            <p:stCondLst>
                              <p:cond delay="500"/>
                            </p:stCondLst>
                            <p:childTnLst>
                              <p:par>
                                <p:cTn id="7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08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5" fill="hold">
                            <p:stCondLst>
                              <p:cond delay="500"/>
                            </p:stCondLst>
                            <p:childTnLst>
                              <p:par>
                                <p:cTn id="716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6" fill="hold">
                            <p:stCondLst>
                              <p:cond delay="500"/>
                            </p:stCondLst>
                            <p:childTnLst>
                              <p:par>
                                <p:cTn id="727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500"/>
                            </p:stCondLst>
                            <p:childTnLst>
                              <p:par>
                                <p:cTn id="738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8" fill="hold">
                            <p:stCondLst>
                              <p:cond delay="500"/>
                            </p:stCondLst>
                            <p:childTnLst>
                              <p:par>
                                <p:cTn id="749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57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"/>
          <p:cNvSpPr/>
          <p:nvPr/>
        </p:nvSpPr>
        <p:spPr>
          <a:xfrm>
            <a:off x="685800" y="1981080"/>
            <a:ext cx="7772400" cy="16002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685800" y="1905120"/>
            <a:ext cx="8153280" cy="15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be a language over </a:t>
            </a:r>
            <a:r>
              <a:rPr b="0" lang="en-US" sz="31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. The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iteration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31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, and the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positive iteration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1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are defined as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1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1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31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1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1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31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685800" y="41148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4330800" y="260352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4267080" y="320040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6019920" y="259092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5969160" y="3187800"/>
            <a:ext cx="76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 =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533520" y="358128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L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0" name=""/>
          <p:cNvGrpSpPr/>
          <p:nvPr/>
        </p:nvGrpSpPr>
        <p:grpSpPr>
          <a:xfrm>
            <a:off x="647640" y="4038480"/>
            <a:ext cx="7848720" cy="1419480"/>
            <a:chOff x="647640" y="4038480"/>
            <a:chExt cx="7848720" cy="1419480"/>
          </a:xfrm>
        </p:grpSpPr>
        <p:sp>
          <p:nvSpPr>
            <p:cNvPr id="681" name=""/>
            <p:cNvSpPr/>
            <p:nvPr/>
          </p:nvSpPr>
          <p:spPr>
            <a:xfrm>
              <a:off x="647640" y="4038480"/>
              <a:ext cx="7848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Example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647640" y="4876560"/>
              <a:ext cx="3581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Task: 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3200" spc="-1" strike="noStrike" baseline="30000">
                  <a:solidFill>
                    <a:srgbClr val="000000"/>
                  </a:solidFill>
                  <a:latin typeface="Times New Roman"/>
                </a:rPr>
                <a:t>*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and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3200" spc="-1" strike="noStrike" baseline="30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647640" y="4419360"/>
              <a:ext cx="6858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Consider language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0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over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= {0, 1}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4" name=""/>
          <p:cNvGrpSpPr/>
          <p:nvPr/>
        </p:nvGrpSpPr>
        <p:grpSpPr>
          <a:xfrm>
            <a:off x="685800" y="5334120"/>
            <a:ext cx="8077320" cy="1343160"/>
            <a:chOff x="685800" y="5334120"/>
            <a:chExt cx="8077320" cy="1343160"/>
          </a:xfrm>
        </p:grpSpPr>
        <p:grpSp>
          <p:nvGrpSpPr>
            <p:cNvPr id="685" name=""/>
            <p:cNvGrpSpPr/>
            <p:nvPr/>
          </p:nvGrpSpPr>
          <p:grpSpPr>
            <a:xfrm>
              <a:off x="685800" y="5334120"/>
              <a:ext cx="7696080" cy="581400"/>
              <a:chOff x="685800" y="5334120"/>
              <a:chExt cx="7696080" cy="581400"/>
            </a:xfrm>
          </p:grpSpPr>
          <p:sp>
            <p:nvSpPr>
              <p:cNvPr id="686" name=""/>
              <p:cNvSpPr/>
              <p:nvPr/>
            </p:nvSpPr>
            <p:spPr>
              <a:xfrm>
                <a:off x="685800" y="5334120"/>
                <a:ext cx="17524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r>
                  <a:rPr b="0" lang="cs-CZ" sz="2800" spc="-1" strike="noStrike" baseline="30000">
                    <a:solidFill>
                      <a:srgbClr val="000000"/>
                    </a:solidFill>
                    <a:latin typeface="Times New Roman"/>
                  </a:rPr>
                  <a:t>0</a:t>
                </a:r>
                <a:r>
                  <a:rPr b="0" lang="cs-CZ" sz="2800" spc="-1" strike="noStrike">
                    <a:solidFill>
                      <a:srgbClr val="000000"/>
                    </a:solidFill>
                    <a:latin typeface="Times New Roman"/>
                  </a:rPr>
                  <a:t> = 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{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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},</a:t>
                </a:r>
                <a:r>
                  <a:rPr b="0" lang="en-US" sz="3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2057400" y="5334120"/>
                <a:ext cx="30481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r>
                  <a:rPr b="0" lang="cs-CZ" sz="2800" spc="-1" strike="noStrike" baseline="30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0" lang="cs-CZ" sz="2800" spc="-1" strike="noStrike">
                    <a:solidFill>
                      <a:srgbClr val="000000"/>
                    </a:solidFill>
                    <a:latin typeface="Times New Roman"/>
                  </a:rPr>
                  <a:t> = 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{</a:t>
                </a:r>
                <a:r>
                  <a:rPr b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0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, </a:t>
                </a: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01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},</a:t>
                </a:r>
                <a:r>
                  <a:rPr b="0" lang="en-US" sz="3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4038480" y="5334120"/>
                <a:ext cx="4343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r>
                  <a:rPr b="0" lang="cs-CZ" sz="2800" spc="-1" strike="noStrike" baseline="30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cs-CZ" sz="2800" spc="-1" strike="noStrike">
                    <a:solidFill>
                      <a:srgbClr val="000000"/>
                    </a:solidFill>
                    <a:latin typeface="Times New Roman"/>
                  </a:rPr>
                  <a:t> = 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{</a:t>
                </a:r>
                <a:r>
                  <a:rPr b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00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, </a:t>
                </a:r>
                <a:r>
                  <a:rPr b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0</a:t>
                </a: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01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, </a:t>
                </a: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01</a:t>
                </a:r>
                <a:r>
                  <a:rPr b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0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, </a:t>
                </a: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0101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}, ...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89" name=""/>
            <p:cNvSpPr/>
            <p:nvPr/>
          </p:nvSpPr>
          <p:spPr>
            <a:xfrm>
              <a:off x="685800" y="5715000"/>
              <a:ext cx="807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600" spc="-1" strike="noStrike" baseline="30000">
                  <a:solidFill>
                    <a:srgbClr val="000000"/>
                  </a:solidFill>
                  <a:latin typeface="Times New Roman"/>
                </a:rPr>
                <a:t>*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600" spc="-1" strike="noStrike" baseline="30000">
                  <a:solidFill>
                    <a:srgbClr val="000000"/>
                  </a:solidFill>
                  <a:latin typeface="Times New Roman"/>
                </a:rPr>
                <a:t>0 </a:t>
              </a:r>
              <a:r>
                <a:rPr b="0" lang="cs-CZ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600" spc="-1" strike="noStrike" baseline="30000">
                  <a:solidFill>
                    <a:srgbClr val="000000"/>
                  </a:solidFill>
                  <a:latin typeface="Times New Roman"/>
                </a:rPr>
                <a:t>1 </a:t>
              </a:r>
              <a:r>
                <a:rPr b="0" lang="cs-CZ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600" spc="-1" strike="noStrike" baseline="30000">
                  <a:solidFill>
                    <a:srgbClr val="000000"/>
                  </a:solidFill>
                  <a:latin typeface="Times New Roman"/>
                </a:rPr>
                <a:t>2 </a:t>
              </a:r>
              <a:r>
                <a:rPr b="0" lang="cs-CZ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cs-CZ" sz="2600" spc="-1" strike="noStrike" baseline="30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…= 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US" sz="26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01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US" sz="2600" spc="-1" strike="noStrike">
                  <a:solidFill>
                    <a:srgbClr val="3333cc"/>
                  </a:solidFill>
                  <a:latin typeface="Times New Roman"/>
                </a:rPr>
                <a:t>00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US" sz="26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01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01</a:t>
              </a:r>
              <a:r>
                <a:rPr b="1" lang="en-US" sz="26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0101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… }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685800" y="6095880"/>
              <a:ext cx="807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600" spc="-1" strike="noStrike" baseline="30000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=         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600" spc="-1" strike="noStrike" baseline="30000">
                  <a:solidFill>
                    <a:srgbClr val="000000"/>
                  </a:solidFill>
                  <a:latin typeface="Times New Roman"/>
                </a:rPr>
                <a:t>1 </a:t>
              </a:r>
              <a:r>
                <a:rPr b="0" lang="cs-CZ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600" spc="-1" strike="noStrike" baseline="30000">
                  <a:solidFill>
                    <a:srgbClr val="000000"/>
                  </a:solidFill>
                  <a:latin typeface="Times New Roman"/>
                </a:rPr>
                <a:t>2 </a:t>
              </a:r>
              <a:r>
                <a:rPr b="0" lang="cs-CZ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cs-CZ" sz="2600" spc="-1" strike="noStrike" baseline="30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…=     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lang="en-US" sz="26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01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US" sz="2600" spc="-1" strike="noStrike">
                  <a:solidFill>
                    <a:srgbClr val="3333cc"/>
                  </a:solidFill>
                  <a:latin typeface="Times New Roman"/>
                </a:rPr>
                <a:t>00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US" sz="26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01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01</a:t>
              </a:r>
              <a:r>
                <a:rPr b="1" lang="en-US" sz="26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0101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… }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teration of Langu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609480" y="1066680"/>
            <a:ext cx="7772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Gist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000" spc="-1" strike="noStrike" baseline="30000">
                <a:solidFill>
                  <a:srgbClr val="ff0000"/>
                </a:solidFill>
                <a:latin typeface="Times New Roman"/>
              </a:rPr>
              <a:t>*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=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cs-CZ" sz="3000" spc="-1" strike="noStrike" baseline="30000">
                <a:solidFill>
                  <a:srgbClr val="ff0000"/>
                </a:solidFill>
                <a:latin typeface="Times New Roman"/>
              </a:rPr>
              <a:t>0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cs-CZ" sz="3000" spc="-1" strike="noStrike" baseline="30000">
                <a:solidFill>
                  <a:srgbClr val="ff0000"/>
                </a:solidFill>
                <a:latin typeface="Times New Roman"/>
              </a:rPr>
              <a:t>1 </a:t>
            </a:r>
            <a:r>
              <a:rPr b="1" lang="en-US" sz="30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cs-CZ" sz="30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… </a:t>
            </a:r>
            <a:r>
              <a:rPr b="1" lang="cs-CZ" sz="30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i="1" lang="en-US" sz="3000" spc="-1" strike="noStrike" baseline="30000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cs-CZ" sz="3000" spc="-1" strike="noStrike" baseline="30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…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cs-CZ" sz="3000" spc="-1" strike="noStrike" baseline="30000">
                <a:solidFill>
                  <a:srgbClr val="ff0000"/>
                </a:solidFill>
                <a:latin typeface="Times New Roman"/>
              </a:rPr>
              <a:t>+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=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cs-CZ" sz="3000" spc="-1" strike="noStrike" baseline="30000">
                <a:solidFill>
                  <a:srgbClr val="ff0000"/>
                </a:solidFill>
                <a:latin typeface="Times New Roman"/>
              </a:rPr>
              <a:t>1 </a:t>
            </a:r>
            <a:r>
              <a:rPr b="1" lang="en-US" sz="30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cs-CZ" sz="30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… </a:t>
            </a:r>
            <a:r>
              <a:rPr b="1" lang="cs-CZ" sz="30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i="1" lang="en-US" sz="3000" spc="-1" strike="noStrike" baseline="30000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cs-CZ" sz="3000" spc="-1" strike="noStrike" baseline="30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…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8" dur="indefinite" restart="never" nodeType="tmRoot">
          <p:childTnLst>
            <p:seq>
              <p:cTn id="759" dur="indefinite" nodeType="mainSeq">
                <p:childTnLst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64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84872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3333cc"/>
                </a:solidFill>
                <a:latin typeface="Times New Roman"/>
              </a:rPr>
              <a:t>Part I.</a:t>
            </a:r>
            <a:br>
              <a:rPr sz="6000"/>
            </a:br>
            <a:r>
              <a:rPr b="1" lang="en-GB" sz="6000" spc="-1" strike="noStrike">
                <a:solidFill>
                  <a:srgbClr val="3333cc"/>
                </a:solidFill>
                <a:latin typeface="Times New Roman"/>
              </a:rPr>
              <a:t>Alphabets</a:t>
            </a: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, </a:t>
            </a:r>
            <a:r>
              <a:rPr b="1" lang="en-GB" sz="6000" spc="-1" strike="noStrike">
                <a:solidFill>
                  <a:srgbClr val="3333cc"/>
                </a:solidFill>
                <a:latin typeface="Times New Roman"/>
              </a:rPr>
              <a:t>Strings,</a:t>
            </a: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 and Language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85800" y="1295280"/>
            <a:ext cx="7772400" cy="11430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phabets and symbo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129528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lphabe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finite, nonempty set of elements, which are calle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ymbol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685800" y="2590920"/>
            <a:ext cx="7924680" cy="3187440"/>
            <a:chOff x="685800" y="2590920"/>
            <a:chExt cx="7924680" cy="3187440"/>
          </a:xfrm>
        </p:grpSpPr>
        <p:grpSp>
          <p:nvGrpSpPr>
            <p:cNvPr id="51" name=""/>
            <p:cNvGrpSpPr/>
            <p:nvPr/>
          </p:nvGrpSpPr>
          <p:grpSpPr>
            <a:xfrm>
              <a:off x="685800" y="2590920"/>
              <a:ext cx="7696080" cy="2514600"/>
              <a:chOff x="685800" y="2590920"/>
              <a:chExt cx="7696080" cy="2514600"/>
            </a:xfrm>
          </p:grpSpPr>
          <p:sp>
            <p:nvSpPr>
              <p:cNvPr id="52" name=""/>
              <p:cNvSpPr/>
              <p:nvPr/>
            </p:nvSpPr>
            <p:spPr>
              <a:xfrm>
                <a:off x="990720" y="3353040"/>
                <a:ext cx="4876560" cy="17524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752480" y="4115160"/>
                <a:ext cx="685800" cy="64260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36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90920" y="3810240"/>
                <a:ext cx="685800" cy="64260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36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3429000" y="3581640"/>
                <a:ext cx="685800" cy="64260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36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4343400" y="3657960"/>
                <a:ext cx="685800" cy="64260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36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6095880" y="3353040"/>
                <a:ext cx="2286000" cy="58140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Times New Roman"/>
                  </a:rPr>
                  <a:t>Alphabe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flipH="1" flipV="1">
                <a:off x="2438280" y="4648320"/>
                <a:ext cx="365760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95880" y="4496040"/>
                <a:ext cx="2286000" cy="58140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Times New Roman"/>
                  </a:rPr>
                  <a:t>Symbols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 flipV="1">
                <a:off x="3200040" y="4495680"/>
                <a:ext cx="289548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flipH="1" flipV="1">
                <a:off x="3657240" y="4267440"/>
                <a:ext cx="2438280" cy="533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flipH="1" flipV="1">
                <a:off x="4876920" y="4343760"/>
                <a:ext cx="121896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V="1">
                <a:off x="5562720" y="3657600"/>
                <a:ext cx="53316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685800" y="2590920"/>
                <a:ext cx="19051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Example: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838080" y="5257800"/>
              <a:ext cx="7772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If we denote this alphabet as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then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= {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0, 1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685800" y="2590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685800" y="1752480"/>
            <a:ext cx="7772400" cy="19051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5334120" y="4419720"/>
            <a:ext cx="1143000" cy="1981080"/>
            <a:chOff x="5334120" y="4419720"/>
            <a:chExt cx="1143000" cy="1981080"/>
          </a:xfrm>
        </p:grpSpPr>
        <p:sp>
          <p:nvSpPr>
            <p:cNvPr id="70" name=""/>
            <p:cNvSpPr/>
            <p:nvPr/>
          </p:nvSpPr>
          <p:spPr>
            <a:xfrm>
              <a:off x="5562720" y="5791320"/>
              <a:ext cx="685800" cy="4572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562720" y="5334120"/>
              <a:ext cx="685800" cy="4572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562720" y="4876920"/>
              <a:ext cx="685800" cy="4572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562720" y="4419720"/>
              <a:ext cx="685800" cy="4572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334120" y="6400800"/>
              <a:ext cx="1143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V="1">
              <a:off x="6477120" y="4648320"/>
              <a:ext cx="0" cy="1752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>
              <a:off x="6248160" y="46483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6248160" y="51055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>
              <a:off x="6248160" y="55627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>
              <a:off x="6248160" y="60199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4191120" y="4876920"/>
            <a:ext cx="685800" cy="1218240"/>
            <a:chOff x="4191120" y="4876920"/>
            <a:chExt cx="685800" cy="1218240"/>
          </a:xfrm>
        </p:grpSpPr>
        <p:sp>
          <p:nvSpPr>
            <p:cNvPr id="81" name=""/>
            <p:cNvSpPr/>
            <p:nvPr/>
          </p:nvSpPr>
          <p:spPr>
            <a:xfrm>
              <a:off x="4191120" y="5333760"/>
              <a:ext cx="457200" cy="45684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191120" y="4876920"/>
              <a:ext cx="457200" cy="45684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flipV="1">
              <a:off x="4876920" y="5181120"/>
              <a:ext cx="0" cy="914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flipH="1">
              <a:off x="4647960" y="518148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4647960" y="563868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" name=""/>
          <p:cNvSpPr/>
          <p:nvPr/>
        </p:nvSpPr>
        <p:spPr>
          <a:xfrm>
            <a:off x="685800" y="1676520"/>
            <a:ext cx="77724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an alphabe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s a string over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s a string over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e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ing ove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09480" y="3962520"/>
            <a:ext cx="693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nside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1600200" y="5029200"/>
            <a:ext cx="3733920" cy="1587600"/>
            <a:chOff x="1600200" y="5029200"/>
            <a:chExt cx="3733920" cy="1587600"/>
          </a:xfrm>
        </p:grpSpPr>
        <p:sp>
          <p:nvSpPr>
            <p:cNvPr id="89" name=""/>
            <p:cNvSpPr/>
            <p:nvPr/>
          </p:nvSpPr>
          <p:spPr>
            <a:xfrm>
              <a:off x="1600200" y="5029200"/>
              <a:ext cx="609480" cy="53352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971800" y="6096240"/>
              <a:ext cx="2362320" cy="52056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Is string over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057400" y="5562720"/>
              <a:ext cx="91440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6477120" y="4419720"/>
            <a:ext cx="2361960" cy="2303640"/>
            <a:chOff x="6477120" y="4419720"/>
            <a:chExt cx="2361960" cy="2303640"/>
          </a:xfrm>
        </p:grpSpPr>
        <p:grpSp>
          <p:nvGrpSpPr>
            <p:cNvPr id="93" name=""/>
            <p:cNvGrpSpPr/>
            <p:nvPr/>
          </p:nvGrpSpPr>
          <p:grpSpPr>
            <a:xfrm>
              <a:off x="6477120" y="5105520"/>
              <a:ext cx="1676160" cy="1295280"/>
              <a:chOff x="6477120" y="5105520"/>
              <a:chExt cx="1676160" cy="1295280"/>
            </a:xfrm>
          </p:grpSpPr>
          <p:sp>
            <p:nvSpPr>
              <p:cNvPr id="94" name=""/>
              <p:cNvSpPr/>
              <p:nvPr/>
            </p:nvSpPr>
            <p:spPr>
              <a:xfrm>
                <a:off x="7086600" y="5639040"/>
                <a:ext cx="838080" cy="53316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086600" y="5105520"/>
                <a:ext cx="838080" cy="53352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6477120" y="6400800"/>
                <a:ext cx="16761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V="1">
                <a:off x="8153280" y="5333760"/>
                <a:ext cx="0" cy="1066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flipH="1">
                <a:off x="7924320" y="533412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flipH="1">
                <a:off x="7924320" y="594360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7315200" y="4419720"/>
              <a:ext cx="1523880" cy="2303640"/>
              <a:chOff x="7315200" y="4419720"/>
              <a:chExt cx="1523880" cy="2303640"/>
            </a:xfrm>
          </p:grpSpPr>
          <p:sp>
            <p:nvSpPr>
              <p:cNvPr id="101" name=""/>
              <p:cNvSpPr/>
              <p:nvPr/>
            </p:nvSpPr>
            <p:spPr>
              <a:xfrm>
                <a:off x="7315200" y="4419720"/>
                <a:ext cx="45720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81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4500" spc="-1" strike="noStrike">
                    <a:solidFill>
                      <a:srgbClr val="000000"/>
                    </a:solidFill>
                    <a:latin typeface="Times New Roman"/>
                  </a:rPr>
                  <a:t>:</a:t>
                </a:r>
                <a:endParaRPr b="0" lang="en-US" sz="4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315200" y="5943600"/>
                <a:ext cx="45720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81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4500" spc="-1" strike="noStrike">
                    <a:solidFill>
                      <a:srgbClr val="000000"/>
                    </a:solidFill>
                    <a:latin typeface="Times New Roman"/>
                  </a:rPr>
                  <a:t>:</a:t>
                </a:r>
                <a:endParaRPr b="0" lang="en-US" sz="4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8153280" y="5029200"/>
                <a:ext cx="68580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81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4500" spc="-1" strike="noStrike">
                    <a:solidFill>
                      <a:srgbClr val="000000"/>
                    </a:solidFill>
                    <a:latin typeface="Times New Roman"/>
                  </a:rPr>
                  <a:t>...</a:t>
                </a:r>
                <a:endParaRPr b="0" lang="en-US" sz="4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4" name=""/>
          <p:cNvSpPr/>
          <p:nvPr/>
        </p:nvSpPr>
        <p:spPr>
          <a:xfrm>
            <a:off x="1676520" y="49528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52680" y="48006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467480" y="56386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3657600" y="4800600"/>
            <a:ext cx="990720" cy="1038600"/>
            <a:chOff x="3657600" y="4800600"/>
            <a:chExt cx="990720" cy="1038600"/>
          </a:xfrm>
        </p:grpSpPr>
        <p:sp>
          <p:nvSpPr>
            <p:cNvPr id="108" name=""/>
            <p:cNvSpPr/>
            <p:nvPr/>
          </p:nvSpPr>
          <p:spPr>
            <a:xfrm>
              <a:off x="3657600" y="4800600"/>
              <a:ext cx="990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=  </a:t>
              </a: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657600" y="5257800"/>
              <a:ext cx="990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=  </a:t>
              </a: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" name=""/>
          <p:cNvSpPr/>
          <p:nvPr/>
        </p:nvSpPr>
        <p:spPr>
          <a:xfrm>
            <a:off x="3352680" y="52578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09480" y="3581280"/>
            <a:ext cx="8001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denotes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the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empty string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that contains no symbol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85800" y="4038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2209680" y="4800600"/>
            <a:ext cx="1371600" cy="1038600"/>
            <a:chOff x="2209680" y="4800600"/>
            <a:chExt cx="1371600" cy="1038600"/>
          </a:xfrm>
        </p:grpSpPr>
        <p:sp>
          <p:nvSpPr>
            <p:cNvPr id="114" name=""/>
            <p:cNvSpPr/>
            <p:nvPr/>
          </p:nvSpPr>
          <p:spPr>
            <a:xfrm>
              <a:off x="3124080" y="52578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124080" y="48006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flipV="1">
              <a:off x="2209680" y="5105160"/>
              <a:ext cx="990720" cy="15228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09680" y="5410440"/>
              <a:ext cx="990720" cy="15228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648320" y="4343400"/>
            <a:ext cx="1371600" cy="1038600"/>
            <a:chOff x="4648320" y="4343400"/>
            <a:chExt cx="1371600" cy="1038600"/>
          </a:xfrm>
        </p:grpSpPr>
        <p:sp>
          <p:nvSpPr>
            <p:cNvPr id="119" name=""/>
            <p:cNvSpPr/>
            <p:nvPr/>
          </p:nvSpPr>
          <p:spPr>
            <a:xfrm>
              <a:off x="5562720" y="48006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562720" y="43434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648320" y="510552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>
              <a:off x="4648320" y="4648320"/>
              <a:ext cx="914400" cy="38088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4648320" y="5257800"/>
            <a:ext cx="1371600" cy="1038600"/>
            <a:chOff x="4648320" y="5257800"/>
            <a:chExt cx="1371600" cy="1038600"/>
          </a:xfrm>
        </p:grpSpPr>
        <p:sp>
          <p:nvSpPr>
            <p:cNvPr id="124" name=""/>
            <p:cNvSpPr/>
            <p:nvPr/>
          </p:nvSpPr>
          <p:spPr>
            <a:xfrm>
              <a:off x="5562720" y="57150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562720" y="52578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648320" y="556272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648320" y="5715000"/>
              <a:ext cx="914400" cy="30492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5791320" y="4343400"/>
            <a:ext cx="457200" cy="1495800"/>
            <a:chOff x="5791320" y="4343400"/>
            <a:chExt cx="457200" cy="1495800"/>
          </a:xfrm>
        </p:grpSpPr>
        <p:sp>
          <p:nvSpPr>
            <p:cNvPr id="129" name=""/>
            <p:cNvSpPr/>
            <p:nvPr/>
          </p:nvSpPr>
          <p:spPr>
            <a:xfrm>
              <a:off x="5791320" y="43434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791320" y="52578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5791320" y="4800600"/>
            <a:ext cx="457200" cy="1495800"/>
            <a:chOff x="5791320" y="4800600"/>
            <a:chExt cx="457200" cy="1495800"/>
          </a:xfrm>
        </p:grpSpPr>
        <p:sp>
          <p:nvSpPr>
            <p:cNvPr id="132" name=""/>
            <p:cNvSpPr/>
            <p:nvPr/>
          </p:nvSpPr>
          <p:spPr>
            <a:xfrm>
              <a:off x="5791320" y="48006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791320" y="57150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6248520" y="5105520"/>
            <a:ext cx="1447560" cy="1114920"/>
            <a:chOff x="6248520" y="5105520"/>
            <a:chExt cx="1447560" cy="1114920"/>
          </a:xfrm>
        </p:grpSpPr>
        <p:sp>
          <p:nvSpPr>
            <p:cNvPr id="135" name=""/>
            <p:cNvSpPr/>
            <p:nvPr/>
          </p:nvSpPr>
          <p:spPr>
            <a:xfrm>
              <a:off x="7010280" y="510552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flipV="1">
              <a:off x="6248520" y="5410080"/>
              <a:ext cx="838080" cy="7596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248520" y="5639040"/>
              <a:ext cx="838080" cy="22860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010280" y="563904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" name=""/>
          <p:cNvSpPr/>
          <p:nvPr/>
        </p:nvSpPr>
        <p:spPr>
          <a:xfrm>
            <a:off x="7467480" y="51055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8381880" y="5905440"/>
            <a:ext cx="762120" cy="9169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Symbol"/>
                <a:ea typeface="Symbol"/>
              </a:rPr>
              <a:t>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29600" y="5791320"/>
            <a:ext cx="91440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tr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09480" y="1143000"/>
            <a:ext cx="7772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=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…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" name=""/>
          <p:cNvGrpSpPr/>
          <p:nvPr/>
        </p:nvGrpSpPr>
        <p:grpSpPr>
          <a:xfrm>
            <a:off x="3809880" y="5943600"/>
            <a:ext cx="4114800" cy="642600"/>
            <a:chOff x="3809880" y="5943600"/>
            <a:chExt cx="4114800" cy="642600"/>
          </a:xfrm>
        </p:grpSpPr>
        <p:sp>
          <p:nvSpPr>
            <p:cNvPr id="146" name=""/>
            <p:cNvSpPr/>
            <p:nvPr/>
          </p:nvSpPr>
          <p:spPr>
            <a:xfrm>
              <a:off x="3809880" y="6172200"/>
              <a:ext cx="304920" cy="30492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114800" y="632448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572000" y="5943600"/>
              <a:ext cx="3352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= 4, thus </a:t>
              </a:r>
              <a:r>
                <a:rPr b="1" lang="cs-CZ" sz="36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1" i="1" lang="cs-CZ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cs-CZ" sz="3600" spc="-1" strike="noStrike">
                  <a:solidFill>
                    <a:srgbClr val="000000"/>
                  </a:solidFill>
                  <a:latin typeface="Times New Roman"/>
                </a:rPr>
                <a:t>| = 4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685800" y="1784520"/>
            <a:ext cx="7772400" cy="24382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85800" y="1752480"/>
            <a:ext cx="8077320" cy="266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in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ve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engt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is defined as follow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then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hen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for some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, and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for all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1,…,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09480" y="4191120"/>
            <a:ext cx="7696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The length of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is the number of all symbols in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85800" y="46483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457200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nsider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=10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ask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828800" y="548640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= 1 0 1 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590920" y="5867280"/>
            <a:ext cx="1600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Length of Str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480" y="1143000"/>
            <a:ext cx="7772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|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…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| =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75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75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685800" y="1752480"/>
            <a:ext cx="7772400" cy="990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85800" y="167652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two strings ove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concatenatio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y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09480" y="2666880"/>
            <a:ext cx="769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85800" y="3200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609480" y="3200400"/>
            <a:ext cx="8229600" cy="1572120"/>
            <a:chOff x="609480" y="3200400"/>
            <a:chExt cx="8229600" cy="1572120"/>
          </a:xfrm>
        </p:grpSpPr>
        <p:sp>
          <p:nvSpPr>
            <p:cNvPr id="164" name=""/>
            <p:cNvSpPr/>
            <p:nvPr/>
          </p:nvSpPr>
          <p:spPr>
            <a:xfrm>
              <a:off x="609480" y="3200400"/>
              <a:ext cx="7848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Examples: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09480" y="3733920"/>
              <a:ext cx="8229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Concatenation of </a:t>
              </a: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101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and </a:t>
              </a: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001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is </a:t>
              </a:r>
              <a:r>
                <a:rPr b="1" lang="en-US" sz="3200" spc="-1" strike="noStrike">
                  <a:solidFill>
                    <a:srgbClr val="3333cc"/>
                  </a:solidFill>
                  <a:latin typeface="Times New Roman"/>
                </a:rPr>
                <a:t>101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00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09480" y="4191120"/>
              <a:ext cx="8229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Concatenation of </a:t>
              </a:r>
              <a:r>
                <a:rPr b="1" lang="cs-CZ" sz="32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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and </a:t>
              </a: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001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is </a:t>
              </a:r>
              <a:r>
                <a:rPr b="1" lang="cs-CZ" sz="32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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001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00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oncatenation of Strin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09480" y="11430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685800" y="1905120"/>
            <a:ext cx="7772400" cy="15238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182880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a string ove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0, the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-th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powe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cs-CZ" sz="32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is defined a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1 then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cs-CZ" sz="32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x</a:t>
            </a:r>
            <a:r>
              <a:rPr b="0" i="1" lang="cs-CZ" sz="32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09480" y="3352680"/>
            <a:ext cx="792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cs-CZ" sz="28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cs-CZ" sz="2800" spc="-1" strike="noStrike" baseline="30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cs-CZ" sz="2800" spc="-1" strike="noStrike" baseline="30000">
                <a:solidFill>
                  <a:srgbClr val="000000"/>
                </a:solidFill>
                <a:latin typeface="Times New Roman"/>
              </a:rPr>
              <a:t>j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cs-CZ" sz="28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cs-CZ" sz="28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cs-CZ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i="1" lang="cs-CZ" sz="2800" spc="-1" strike="noStrike" baseline="30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85800" y="388620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3809880"/>
            <a:ext cx="7925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nsider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=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ask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71600" y="472428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x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10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057400" y="609588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0" lang="cs-CZ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600200" y="518148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x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10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828800" y="563868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x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0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10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181480" y="563868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10</a:t>
            </a:r>
            <a:r>
              <a:rPr b="1" lang="cs-CZ" sz="32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410080" y="5181480"/>
            <a:ext cx="289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10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4648320"/>
            <a:ext cx="2209680" cy="581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1010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343400" y="6019920"/>
            <a:ext cx="914400" cy="14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H="1" flipV="1">
            <a:off x="4038120" y="5562720"/>
            <a:ext cx="121932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4114800" y="5486400"/>
            <a:ext cx="1371600" cy="14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H="1" flipV="1">
            <a:off x="3885840" y="5105520"/>
            <a:ext cx="1600200" cy="304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886200" y="5029200"/>
            <a:ext cx="1828800" cy="14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143000" y="5029200"/>
            <a:ext cx="482760" cy="457200"/>
          </a:xfrm>
          <a:custGeom>
            <a:avLst/>
            <a:gdLst/>
            <a:ahLst/>
            <a:rect l="l" t="t" r="r" b="b"/>
            <a:pathLst>
              <a:path w="304" h="304">
                <a:moveTo>
                  <a:pt x="160" y="8"/>
                </a:moveTo>
                <a:cubicBezTo>
                  <a:pt x="148" y="4"/>
                  <a:pt x="136" y="0"/>
                  <a:pt x="112" y="8"/>
                </a:cubicBezTo>
                <a:cubicBezTo>
                  <a:pt x="88" y="16"/>
                  <a:pt x="32" y="32"/>
                  <a:pt x="16" y="56"/>
                </a:cubicBezTo>
                <a:cubicBezTo>
                  <a:pt x="0" y="80"/>
                  <a:pt x="0" y="120"/>
                  <a:pt x="16" y="152"/>
                </a:cubicBezTo>
                <a:cubicBezTo>
                  <a:pt x="32" y="184"/>
                  <a:pt x="72" y="224"/>
                  <a:pt x="112" y="248"/>
                </a:cubicBezTo>
                <a:cubicBezTo>
                  <a:pt x="152" y="272"/>
                  <a:pt x="224" y="288"/>
                  <a:pt x="256" y="296"/>
                </a:cubicBezTo>
                <a:cubicBezTo>
                  <a:pt x="288" y="304"/>
                  <a:pt x="296" y="300"/>
                  <a:pt x="304" y="296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371600" y="5562720"/>
            <a:ext cx="482760" cy="457200"/>
          </a:xfrm>
          <a:custGeom>
            <a:avLst/>
            <a:gdLst/>
            <a:ahLst/>
            <a:rect l="l" t="t" r="r" b="b"/>
            <a:pathLst>
              <a:path w="304" h="304">
                <a:moveTo>
                  <a:pt x="160" y="8"/>
                </a:moveTo>
                <a:cubicBezTo>
                  <a:pt x="148" y="4"/>
                  <a:pt x="136" y="0"/>
                  <a:pt x="112" y="8"/>
                </a:cubicBezTo>
                <a:cubicBezTo>
                  <a:pt x="88" y="16"/>
                  <a:pt x="32" y="32"/>
                  <a:pt x="16" y="56"/>
                </a:cubicBezTo>
                <a:cubicBezTo>
                  <a:pt x="0" y="80"/>
                  <a:pt x="0" y="120"/>
                  <a:pt x="16" y="152"/>
                </a:cubicBezTo>
                <a:cubicBezTo>
                  <a:pt x="32" y="184"/>
                  <a:pt x="72" y="224"/>
                  <a:pt x="112" y="248"/>
                </a:cubicBezTo>
                <a:cubicBezTo>
                  <a:pt x="152" y="272"/>
                  <a:pt x="224" y="288"/>
                  <a:pt x="256" y="296"/>
                </a:cubicBezTo>
                <a:cubicBezTo>
                  <a:pt x="288" y="304"/>
                  <a:pt x="296" y="300"/>
                  <a:pt x="304" y="296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600200" y="6095880"/>
            <a:ext cx="482760" cy="381240"/>
          </a:xfrm>
          <a:custGeom>
            <a:avLst/>
            <a:gdLst/>
            <a:ahLst/>
            <a:rect l="l" t="t" r="r" b="b"/>
            <a:pathLst>
              <a:path w="304" h="304">
                <a:moveTo>
                  <a:pt x="160" y="8"/>
                </a:moveTo>
                <a:cubicBezTo>
                  <a:pt x="148" y="4"/>
                  <a:pt x="136" y="0"/>
                  <a:pt x="112" y="8"/>
                </a:cubicBezTo>
                <a:cubicBezTo>
                  <a:pt x="88" y="16"/>
                  <a:pt x="32" y="32"/>
                  <a:pt x="16" y="56"/>
                </a:cubicBezTo>
                <a:cubicBezTo>
                  <a:pt x="0" y="80"/>
                  <a:pt x="0" y="120"/>
                  <a:pt x="16" y="152"/>
                </a:cubicBezTo>
                <a:cubicBezTo>
                  <a:pt x="32" y="184"/>
                  <a:pt x="72" y="224"/>
                  <a:pt x="112" y="248"/>
                </a:cubicBezTo>
                <a:cubicBezTo>
                  <a:pt x="152" y="272"/>
                  <a:pt x="224" y="288"/>
                  <a:pt x="256" y="296"/>
                </a:cubicBezTo>
                <a:cubicBezTo>
                  <a:pt x="288" y="304"/>
                  <a:pt x="296" y="300"/>
                  <a:pt x="304" y="296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124080" y="6172200"/>
            <a:ext cx="1003320" cy="317520"/>
          </a:xfrm>
          <a:custGeom>
            <a:avLst/>
            <a:gdLst/>
            <a:ahLst/>
            <a:rect l="l" t="t" r="r" b="b"/>
            <a:pathLst>
              <a:path w="632" h="200">
                <a:moveTo>
                  <a:pt x="0" y="192"/>
                </a:moveTo>
                <a:cubicBezTo>
                  <a:pt x="144" y="196"/>
                  <a:pt x="288" y="200"/>
                  <a:pt x="384" y="192"/>
                </a:cubicBezTo>
                <a:cubicBezTo>
                  <a:pt x="480" y="184"/>
                  <a:pt x="536" y="168"/>
                  <a:pt x="576" y="144"/>
                </a:cubicBezTo>
                <a:cubicBezTo>
                  <a:pt x="616" y="120"/>
                  <a:pt x="616" y="72"/>
                  <a:pt x="624" y="48"/>
                </a:cubicBezTo>
                <a:cubicBezTo>
                  <a:pt x="632" y="24"/>
                  <a:pt x="628" y="12"/>
                  <a:pt x="624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ower of Str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09480" y="10666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3200" spc="-1" strike="noStrike" baseline="30000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= xx…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rot="5400000">
            <a:off x="2895480" y="1066680"/>
            <a:ext cx="76320" cy="990720"/>
          </a:xfrm>
          <a:custGeom>
            <a:avLst/>
            <a:gdLst>
              <a:gd name="textAreaLeft" fmla="*/ 0 w 76320"/>
              <a:gd name="textAreaRight" fmla="*/ 27360 w 7632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438280" y="152388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-ti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500"/>
                            </p:stCondLst>
                            <p:childTnLst>
                              <p:par>
                                <p:cTn id="1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500"/>
                            </p:stCondLst>
                            <p:childTnLst>
                              <p:par>
                                <p:cTn id="1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500"/>
                            </p:stCondLst>
                            <p:childTnLst>
                              <p:par>
                                <p:cTn id="164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1000"/>
                            </p:stCondLst>
                            <p:childTnLst>
                              <p:par>
                                <p:cTn id="1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500"/>
                            </p:stCondLst>
                            <p:childTnLst>
                              <p:par>
                                <p:cTn id="18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1000"/>
                            </p:stCondLst>
                            <p:childTnLst>
                              <p:par>
                                <p:cTn id="1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500"/>
                            </p:stCondLst>
                            <p:childTnLst>
                              <p:par>
                                <p:cTn id="20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1000"/>
                            </p:stCondLst>
                            <p:childTnLst>
                              <p:par>
                                <p:cTn id="2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685800" y="1752480"/>
            <a:ext cx="7772400" cy="243864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85800" y="1676520"/>
            <a:ext cx="7848720" cy="266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a string ove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evers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evers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is defined a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the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versal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then reversal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for some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, and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for all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1,…,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85800" y="4343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09480" y="434340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nsider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10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ask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eversal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752480" y="5257800"/>
            <a:ext cx="632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reversal(           ) =            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3352680" y="5334120"/>
            <a:ext cx="3429000" cy="648720"/>
            <a:chOff x="3352680" y="5334120"/>
            <a:chExt cx="3429000" cy="648720"/>
          </a:xfrm>
        </p:grpSpPr>
        <p:sp>
          <p:nvSpPr>
            <p:cNvPr id="202" name=""/>
            <p:cNvSpPr/>
            <p:nvPr/>
          </p:nvSpPr>
          <p:spPr>
            <a:xfrm>
              <a:off x="6172200" y="5334120"/>
              <a:ext cx="6094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352680" y="5334120"/>
              <a:ext cx="6094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3657600" y="5334120"/>
            <a:ext cx="2808000" cy="648720"/>
            <a:chOff x="3657600" y="5334120"/>
            <a:chExt cx="2808000" cy="648720"/>
          </a:xfrm>
        </p:grpSpPr>
        <p:sp>
          <p:nvSpPr>
            <p:cNvPr id="205" name=""/>
            <p:cNvSpPr/>
            <p:nvPr/>
          </p:nvSpPr>
          <p:spPr>
            <a:xfrm>
              <a:off x="5856120" y="5334120"/>
              <a:ext cx="6094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657600" y="5334120"/>
              <a:ext cx="6094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3986280" y="5334120"/>
            <a:ext cx="2161800" cy="648720"/>
            <a:chOff x="3986280" y="5334120"/>
            <a:chExt cx="2161800" cy="648720"/>
          </a:xfrm>
        </p:grpSpPr>
        <p:sp>
          <p:nvSpPr>
            <p:cNvPr id="208" name=""/>
            <p:cNvSpPr/>
            <p:nvPr/>
          </p:nvSpPr>
          <p:spPr>
            <a:xfrm>
              <a:off x="3986280" y="5334120"/>
              <a:ext cx="6094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538600" y="5334120"/>
              <a:ext cx="6094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4319640" y="5334120"/>
            <a:ext cx="1500120" cy="650160"/>
            <a:chOff x="4319640" y="5334120"/>
            <a:chExt cx="1500120" cy="650160"/>
          </a:xfrm>
        </p:grpSpPr>
        <p:sp>
          <p:nvSpPr>
            <p:cNvPr id="211" name=""/>
            <p:cNvSpPr/>
            <p:nvPr/>
          </p:nvSpPr>
          <p:spPr>
            <a:xfrm>
              <a:off x="4319640" y="5335560"/>
              <a:ext cx="6094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209920" y="5334120"/>
              <a:ext cx="6098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3" name=""/>
          <p:cNvSpPr/>
          <p:nvPr/>
        </p:nvSpPr>
        <p:spPr>
          <a:xfrm>
            <a:off x="1752480" y="5791320"/>
            <a:ext cx="632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reversal(           ) =  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3352680" y="5867280"/>
            <a:ext cx="3429000" cy="581400"/>
            <a:chOff x="3352680" y="5867280"/>
            <a:chExt cx="3429000" cy="581400"/>
          </a:xfrm>
        </p:grpSpPr>
        <p:sp>
          <p:nvSpPr>
            <p:cNvPr id="215" name=""/>
            <p:cNvSpPr/>
            <p:nvPr/>
          </p:nvSpPr>
          <p:spPr>
            <a:xfrm>
              <a:off x="6172200" y="586728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352680" y="586728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3657600" y="5867280"/>
            <a:ext cx="2808000" cy="581400"/>
            <a:chOff x="3657600" y="5867280"/>
            <a:chExt cx="2808000" cy="581400"/>
          </a:xfrm>
        </p:grpSpPr>
        <p:sp>
          <p:nvSpPr>
            <p:cNvPr id="218" name=""/>
            <p:cNvSpPr/>
            <p:nvPr/>
          </p:nvSpPr>
          <p:spPr>
            <a:xfrm>
              <a:off x="5856120" y="586728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657600" y="586728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3986280" y="5867280"/>
            <a:ext cx="2161800" cy="581400"/>
            <a:chOff x="3986280" y="5867280"/>
            <a:chExt cx="2161800" cy="581400"/>
          </a:xfrm>
        </p:grpSpPr>
        <p:sp>
          <p:nvSpPr>
            <p:cNvPr id="221" name=""/>
            <p:cNvSpPr/>
            <p:nvPr/>
          </p:nvSpPr>
          <p:spPr>
            <a:xfrm>
              <a:off x="3986280" y="586728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cc66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538600" y="586728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cc66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4343400" y="5867280"/>
            <a:ext cx="1500120" cy="582840"/>
            <a:chOff x="4343400" y="5867280"/>
            <a:chExt cx="1500120" cy="582840"/>
          </a:xfrm>
        </p:grpSpPr>
        <p:sp>
          <p:nvSpPr>
            <p:cNvPr id="224" name=""/>
            <p:cNvSpPr/>
            <p:nvPr/>
          </p:nvSpPr>
          <p:spPr>
            <a:xfrm>
              <a:off x="4343400" y="58687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233680" y="586728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versal of Str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143000"/>
            <a:ext cx="7772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reversal(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…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) =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…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500"/>
                            </p:stCondLst>
                            <p:childTnLst>
                              <p:par>
                                <p:cTn id="21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1500"/>
                            </p:stCondLst>
                            <p:childTnLst>
                              <p:par>
                                <p:cTn id="22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2000"/>
                            </p:stCondLst>
                            <p:childTnLst>
                              <p:par>
                                <p:cTn id="2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500"/>
                            </p:stCondLst>
                            <p:childTnLst>
                              <p:par>
                                <p:cTn id="24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000"/>
                            </p:stCondLst>
                            <p:childTnLst>
                              <p:par>
                                <p:cTn id="24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1500"/>
                            </p:stCondLst>
                            <p:childTnLst>
                              <p:par>
                                <p:cTn id="25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1:29:08Z</dcterms:created>
  <dc:creator>Roman Lukáš</dc:creator>
  <dc:description/>
  <dc:language>en-US</dc:language>
  <cp:lastModifiedBy>Roman Lukáš</cp:lastModifiedBy>
  <dcterms:modified xsi:type="dcterms:W3CDTF">2006-08-10T13:56:08Z</dcterms:modified>
  <cp:revision>151</cp:revision>
  <dc:subject/>
  <dc:title>Alphabets, Strings, and Languages</dc:title>
</cp:coreProperties>
</file>